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62240" cy="474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dt" idx="4"/>
          </p:nvPr>
        </p:nvSpPr>
        <p:spPr>
          <a:xfrm>
            <a:off x="4142880" y="-360"/>
            <a:ext cx="3162600" cy="474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4/08/08 02:23 P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923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35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6224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6260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0C57C-479F-46C4-A1D3-32E68097E68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3675240" y="716040"/>
            <a:ext cx="3200400" cy="24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0B789-848C-4B92-B84C-4DF0B11CF89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675240" y="716040"/>
            <a:ext cx="3200400" cy="24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body"/>
          </p:nvPr>
        </p:nvSpPr>
        <p:spPr>
          <a:xfrm>
            <a:off x="731880" y="4560840"/>
            <a:ext cx="58449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3EB5-77CC-451B-B961-3B709876B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EF8A-0250-4AA9-AEB2-196B09936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CA80-5744-4571-A388-1FB23B2C2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3380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3476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284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3380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3476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E81A-813B-4D66-B05E-F7C9B3932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16A9B-4E9E-49D4-ABB6-2942F800E4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66000"/>
              </a:lnSpc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6041-5003-4D5F-9FA0-8844C64A12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DAC41-9AF5-4CC5-9A66-279B6BAF0F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98A6-87CE-413C-9947-0083E50A72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72D2-F62C-41B8-AF9E-D4495C2B4C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2840" y="285480"/>
            <a:ext cx="887436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66000"/>
              </a:lnSpc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B772F-EF70-4F3E-928A-BAE9F77200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3392-00EE-4943-868A-9740ED1AB0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66000"/>
              </a:lnSpc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1D9D-A639-4DF4-8111-1C1AB1BAC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6AAD5-EC7C-4220-A124-7556AB2936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5FB6E-0961-49AF-BD79-4DE5DFF376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90507-EF16-489A-8EAA-19C7F6A7F4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3E8F4-A0B9-4D3C-9083-308D56ABC3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3380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3476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284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3380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3476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88AB-0E5F-42D9-AAA8-79F497F8164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2754-67B3-4560-A234-3D315155B9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66000"/>
              </a:lnSpc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F04-CA09-4957-BD14-4C7970AB49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1EC-A4C6-4FC6-9511-C8C9239A59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196-5549-40F8-B790-2ACDC1CEEA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8895-3D46-436F-A03A-290F30EF43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7C68-BB3A-4513-836D-351D06830F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2840" y="285480"/>
            <a:ext cx="887436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66000"/>
              </a:lnSpc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398-B172-49D3-8B14-ED24D7FEDB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FB43-64B1-43A5-8148-33213BBDD3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444-8E5D-45F8-BAFC-38D9A5895B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291-FE53-4BD4-BA75-A77B9C3DA0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C64-E9A5-4C20-8E2B-A4C8E8E5F5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516-DAED-4AD3-A023-37F4F217E6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3380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3476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3284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3380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3476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A61-ACCF-4E8F-AE36-F84ED15A37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66000"/>
              </a:lnSpc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4CF1-4717-4BDA-8B37-249DF6D131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32840" y="285480"/>
            <a:ext cx="887436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66000"/>
              </a:lnSpc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3380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3476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13284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3380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13476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5188-567D-44D0-B875-55516FF82EE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66000"/>
              </a:lnSpc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32840" y="285480"/>
            <a:ext cx="887436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66000"/>
              </a:lnSpc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2840" y="285480"/>
            <a:ext cx="8874360" cy="299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66000"/>
              </a:lnSpc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C2A3-527D-4BC4-9A0B-1752450D9FD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13380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134760" y="9334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3284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13380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134760" y="3494880"/>
            <a:ext cx="285768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8223-0AA8-4DE4-B2B5-A508B255F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1080" y="34948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C288-A0D8-44EC-B809-4758B2F41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284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080" y="933480"/>
            <a:ext cx="433116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2840" y="3494880"/>
            <a:ext cx="8875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A0A1D-C38A-4EF0-9918-1B1A54F2E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31760" y="6000840"/>
            <a:ext cx="8878320" cy="172800"/>
            <a:chOff x="131760" y="6000840"/>
            <a:chExt cx="8878320" cy="172800"/>
          </a:xfrm>
        </p:grpSpPr>
        <p:sp>
          <p:nvSpPr>
            <p:cNvPr id="1" name=""/>
            <p:cNvSpPr/>
            <p:nvPr/>
          </p:nvSpPr>
          <p:spPr>
            <a:xfrm flipH="1">
              <a:off x="1381680" y="6000840"/>
              <a:ext cx="7628040" cy="172800"/>
            </a:xfrm>
            <a:custGeom>
              <a:avLst/>
              <a:gdLst/>
              <a:ahLst/>
              <a:rect l="l" t="t" r="r" b="b"/>
              <a:pathLst>
                <a:path w="4945" h="111">
                  <a:moveTo>
                    <a:pt x="0" y="0"/>
                  </a:moveTo>
                  <a:lnTo>
                    <a:pt x="0" y="111"/>
                  </a:lnTo>
                  <a:lnTo>
                    <a:pt x="4267" y="111"/>
                  </a:lnTo>
                  <a:lnTo>
                    <a:pt x="4334" y="44"/>
                  </a:lnTo>
                  <a:lnTo>
                    <a:pt x="4401" y="111"/>
                  </a:lnTo>
                  <a:lnTo>
                    <a:pt x="4945" y="111"/>
                  </a:lnTo>
                  <a:lnTo>
                    <a:pt x="49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131760" y="6000840"/>
              <a:ext cx="7847280" cy="172800"/>
            </a:xfrm>
            <a:custGeom>
              <a:avLst/>
              <a:gdLst/>
              <a:ahLst/>
              <a:rect l="l" t="t" r="r" b="b"/>
              <a:pathLst>
                <a:path w="4945" h="111">
                  <a:moveTo>
                    <a:pt x="0" y="0"/>
                  </a:moveTo>
                  <a:lnTo>
                    <a:pt x="0" y="111"/>
                  </a:lnTo>
                  <a:lnTo>
                    <a:pt x="4267" y="111"/>
                  </a:lnTo>
                  <a:lnTo>
                    <a:pt x="4334" y="44"/>
                  </a:lnTo>
                  <a:lnTo>
                    <a:pt x="4401" y="111"/>
                  </a:lnTo>
                  <a:lnTo>
                    <a:pt x="4945" y="111"/>
                  </a:lnTo>
                  <a:lnTo>
                    <a:pt x="49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7436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2840" y="933480"/>
            <a:ext cx="8875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HelveticaNeueLT Std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65440" indent="-15084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7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65440" indent="-15084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7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65440" indent="-15084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7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454880" y="6272280"/>
            <a:ext cx="1591920" cy="426600"/>
            <a:chOff x="7454880" y="6272280"/>
            <a:chExt cx="1591920" cy="426600"/>
          </a:xfrm>
        </p:grpSpPr>
        <p:sp>
          <p:nvSpPr>
            <p:cNvPr id="6" name=""/>
            <p:cNvSpPr/>
            <p:nvPr/>
          </p:nvSpPr>
          <p:spPr>
            <a:xfrm>
              <a:off x="8767800" y="6438240"/>
              <a:ext cx="2790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198640" y="6653520"/>
              <a:ext cx="4428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19"/>
                  </a:moveTo>
                  <a:cubicBezTo>
                    <a:pt x="6" y="25"/>
                    <a:pt x="10" y="26"/>
                    <a:pt x="14" y="26"/>
                  </a:cubicBezTo>
                  <a:cubicBezTo>
                    <a:pt x="16" y="26"/>
                    <a:pt x="20" y="26"/>
                    <a:pt x="21" y="21"/>
                  </a:cubicBezTo>
                  <a:cubicBezTo>
                    <a:pt x="22" y="14"/>
                    <a:pt x="2" y="20"/>
                    <a:pt x="5" y="8"/>
                  </a:cubicBezTo>
                  <a:cubicBezTo>
                    <a:pt x="6" y="2"/>
                    <a:pt x="12" y="0"/>
                    <a:pt x="17" y="0"/>
                  </a:cubicBezTo>
                  <a:cubicBezTo>
                    <a:pt x="21" y="0"/>
                    <a:pt x="29" y="2"/>
                    <a:pt x="28" y="9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6"/>
                    <a:pt x="20" y="4"/>
                    <a:pt x="17" y="4"/>
                  </a:cubicBezTo>
                  <a:cubicBezTo>
                    <a:pt x="14" y="4"/>
                    <a:pt x="10" y="4"/>
                    <a:pt x="10" y="8"/>
                  </a:cubicBezTo>
                  <a:cubicBezTo>
                    <a:pt x="8" y="15"/>
                    <a:pt x="28" y="10"/>
                    <a:pt x="26" y="21"/>
                  </a:cubicBezTo>
                  <a:cubicBezTo>
                    <a:pt x="25" y="27"/>
                    <a:pt x="18" y="30"/>
                    <a:pt x="12" y="30"/>
                  </a:cubicBezTo>
                  <a:cubicBezTo>
                    <a:pt x="6" y="30"/>
                    <a:pt x="0" y="27"/>
                    <a:pt x="1" y="20"/>
                  </a:cubicBez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46520" y="6653520"/>
              <a:ext cx="453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7" y="16"/>
                  </a:moveTo>
                  <a:cubicBezTo>
                    <a:pt x="5" y="22"/>
                    <a:pt x="8" y="26"/>
                    <a:pt x="13" y="26"/>
                  </a:cubicBezTo>
                  <a:cubicBezTo>
                    <a:pt x="18" y="26"/>
                    <a:pt x="21" y="24"/>
                    <a:pt x="23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4" y="27"/>
                    <a:pt x="19" y="30"/>
                    <a:pt x="12" y="30"/>
                  </a:cubicBezTo>
                  <a:cubicBezTo>
                    <a:pt x="3" y="30"/>
                    <a:pt x="0" y="23"/>
                    <a:pt x="1" y="15"/>
                  </a:cubicBezTo>
                  <a:cubicBezTo>
                    <a:pt x="3" y="6"/>
                    <a:pt x="9" y="0"/>
                    <a:pt x="18" y="0"/>
                  </a:cubicBezTo>
                  <a:cubicBezTo>
                    <a:pt x="27" y="0"/>
                    <a:pt x="30" y="6"/>
                    <a:pt x="29" y="15"/>
                  </a:cubicBezTo>
                  <a:cubicBezTo>
                    <a:pt x="28" y="16"/>
                    <a:pt x="28" y="16"/>
                    <a:pt x="28" y="16"/>
                  </a:cubicBezTo>
                  <a:lnTo>
                    <a:pt x="7" y="16"/>
                  </a:lnTo>
                  <a:close/>
                  <a:moveTo>
                    <a:pt x="24" y="12"/>
                  </a:moveTo>
                  <a:cubicBezTo>
                    <a:pt x="24" y="8"/>
                    <a:pt x="22" y="4"/>
                    <a:pt x="17" y="4"/>
                  </a:cubicBezTo>
                  <a:cubicBezTo>
                    <a:pt x="12" y="4"/>
                    <a:pt x="8" y="8"/>
                    <a:pt x="7" y="12"/>
                  </a:cubicBezTo>
                  <a:lnTo>
                    <a:pt x="2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95120" y="6653520"/>
              <a:ext cx="69480" cy="4392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2" y="2"/>
                    <a:pt x="15" y="0"/>
                    <a:pt x="18" y="0"/>
                  </a:cubicBezTo>
                  <a:cubicBezTo>
                    <a:pt x="21" y="0"/>
                    <a:pt x="25" y="1"/>
                    <a:pt x="26" y="5"/>
                  </a:cubicBezTo>
                  <a:cubicBezTo>
                    <a:pt x="28" y="2"/>
                    <a:pt x="32" y="0"/>
                    <a:pt x="35" y="0"/>
                  </a:cubicBezTo>
                  <a:cubicBezTo>
                    <a:pt x="40" y="0"/>
                    <a:pt x="44" y="2"/>
                    <a:pt x="43" y="1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7"/>
                    <a:pt x="37" y="4"/>
                    <a:pt x="34" y="4"/>
                  </a:cubicBezTo>
                  <a:cubicBezTo>
                    <a:pt x="31" y="4"/>
                    <a:pt x="26" y="6"/>
                    <a:pt x="26" y="1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7"/>
                    <a:pt x="20" y="4"/>
                    <a:pt x="17" y="4"/>
                  </a:cubicBezTo>
                  <a:cubicBezTo>
                    <a:pt x="14" y="4"/>
                    <a:pt x="9" y="6"/>
                    <a:pt x="8" y="10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368200" y="6631200"/>
              <a:ext cx="20160" cy="66240"/>
            </a:xfrm>
            <a:custGeom>
              <a:avLst/>
              <a:gdLst/>
              <a:ahLst/>
              <a:rect l="l" t="t" r="r" b="b"/>
              <a:pathLst>
                <a:path w="26" h="86">
                  <a:moveTo>
                    <a:pt x="10" y="30"/>
                  </a:moveTo>
                  <a:lnTo>
                    <a:pt x="20" y="30"/>
                  </a:lnTo>
                  <a:lnTo>
                    <a:pt x="8" y="86"/>
                  </a:lnTo>
                  <a:lnTo>
                    <a:pt x="0" y="86"/>
                  </a:lnTo>
                  <a:lnTo>
                    <a:pt x="10" y="30"/>
                  </a:lnTo>
                  <a:close/>
                  <a:moveTo>
                    <a:pt x="16" y="0"/>
                  </a:moveTo>
                  <a:lnTo>
                    <a:pt x="26" y="0"/>
                  </a:lnTo>
                  <a:lnTo>
                    <a:pt x="24" y="12"/>
                  </a:lnTo>
                  <a:lnTo>
                    <a:pt x="14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5840" y="6653520"/>
              <a:ext cx="471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9" y="4"/>
                  </a:cubicBezTo>
                  <a:cubicBezTo>
                    <a:pt x="12" y="4"/>
                    <a:pt x="8" y="10"/>
                    <a:pt x="7" y="15"/>
                  </a:cubicBezTo>
                  <a:cubicBezTo>
                    <a:pt x="6" y="21"/>
                    <a:pt x="8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36600" y="6653520"/>
              <a:ext cx="48600" cy="453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8" y="0"/>
                  </a:moveTo>
                  <a:cubicBezTo>
                    <a:pt x="27" y="0"/>
                    <a:pt x="31" y="6"/>
                    <a:pt x="30" y="15"/>
                  </a:cubicBezTo>
                  <a:cubicBezTo>
                    <a:pt x="28" y="24"/>
                    <a:pt x="21" y="30"/>
                    <a:pt x="13" y="30"/>
                  </a:cubicBezTo>
                  <a:cubicBezTo>
                    <a:pt x="4" y="30"/>
                    <a:pt x="0" y="24"/>
                    <a:pt x="1" y="15"/>
                  </a:cubicBezTo>
                  <a:cubicBezTo>
                    <a:pt x="3" y="6"/>
                    <a:pt x="10" y="0"/>
                    <a:pt x="18" y="0"/>
                  </a:cubicBezTo>
                  <a:close/>
                  <a:moveTo>
                    <a:pt x="13" y="26"/>
                  </a:moveTo>
                  <a:cubicBezTo>
                    <a:pt x="20" y="26"/>
                    <a:pt x="23" y="20"/>
                    <a:pt x="24" y="15"/>
                  </a:cubicBezTo>
                  <a:cubicBezTo>
                    <a:pt x="25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6" y="26"/>
                    <a:pt x="13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87360" y="6653520"/>
              <a:ext cx="45720" cy="439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2" y="2"/>
                    <a:pt x="15" y="0"/>
                    <a:pt x="19" y="0"/>
                  </a:cubicBezTo>
                  <a:cubicBezTo>
                    <a:pt x="25" y="0"/>
                    <a:pt x="29" y="2"/>
                    <a:pt x="27" y="10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3" y="6"/>
                    <a:pt x="21" y="4"/>
                    <a:pt x="17" y="4"/>
                  </a:cubicBezTo>
                  <a:cubicBezTo>
                    <a:pt x="13" y="4"/>
                    <a:pt x="9" y="7"/>
                    <a:pt x="8" y="12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534880" y="6631200"/>
              <a:ext cx="53640" cy="676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26" y="43"/>
                  </a:moveTo>
                  <a:cubicBezTo>
                    <a:pt x="21" y="43"/>
                    <a:pt x="21" y="43"/>
                    <a:pt x="21" y="43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19" y="43"/>
                    <a:pt x="16" y="44"/>
                    <a:pt x="12" y="44"/>
                  </a:cubicBezTo>
                  <a:cubicBezTo>
                    <a:pt x="2" y="44"/>
                    <a:pt x="0" y="37"/>
                    <a:pt x="1" y="29"/>
                  </a:cubicBezTo>
                  <a:cubicBezTo>
                    <a:pt x="3" y="21"/>
                    <a:pt x="8" y="14"/>
                    <a:pt x="18" y="14"/>
                  </a:cubicBezTo>
                  <a:cubicBezTo>
                    <a:pt x="22" y="14"/>
                    <a:pt x="25" y="15"/>
                    <a:pt x="26" y="1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26" y="43"/>
                  </a:lnTo>
                  <a:close/>
                  <a:moveTo>
                    <a:pt x="13" y="40"/>
                  </a:moveTo>
                  <a:cubicBezTo>
                    <a:pt x="20" y="40"/>
                    <a:pt x="23" y="35"/>
                    <a:pt x="24" y="29"/>
                  </a:cubicBezTo>
                  <a:cubicBezTo>
                    <a:pt x="25" y="23"/>
                    <a:pt x="23" y="18"/>
                    <a:pt x="17" y="18"/>
                  </a:cubicBezTo>
                  <a:cubicBezTo>
                    <a:pt x="11" y="18"/>
                    <a:pt x="7" y="23"/>
                    <a:pt x="6" y="29"/>
                  </a:cubicBezTo>
                  <a:cubicBezTo>
                    <a:pt x="5" y="35"/>
                    <a:pt x="7" y="40"/>
                    <a:pt x="13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88880" y="6653520"/>
              <a:ext cx="43920" cy="453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3" y="28"/>
                  </a:moveTo>
                  <a:cubicBezTo>
                    <a:pt x="18" y="28"/>
                    <a:pt x="18" y="28"/>
                    <a:pt x="18" y="28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7" y="27"/>
                    <a:pt x="13" y="29"/>
                    <a:pt x="10" y="29"/>
                  </a:cubicBezTo>
                  <a:cubicBezTo>
                    <a:pt x="4" y="29"/>
                    <a:pt x="0" y="27"/>
                    <a:pt x="1" y="19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23"/>
                    <a:pt x="8" y="25"/>
                    <a:pt x="11" y="25"/>
                  </a:cubicBezTo>
                  <a:cubicBezTo>
                    <a:pt x="16" y="25"/>
                    <a:pt x="20" y="22"/>
                    <a:pt x="21" y="1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34960" y="6653520"/>
              <a:ext cx="471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1"/>
                    <a:pt x="7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5360" y="6640560"/>
              <a:ext cx="28080" cy="583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" y="9"/>
                  </a:moveTo>
                  <a:cubicBezTo>
                    <a:pt x="6" y="9"/>
                    <a:pt x="6" y="9"/>
                    <a:pt x="6" y="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3"/>
                    <a:pt x="6" y="34"/>
                    <a:pt x="8" y="34"/>
                  </a:cubicBezTo>
                  <a:cubicBezTo>
                    <a:pt x="9" y="34"/>
                    <a:pt x="10" y="34"/>
                    <a:pt x="11" y="33"/>
                  </a:cubicBezTo>
                  <a:cubicBezTo>
                    <a:pt x="11" y="38"/>
                    <a:pt x="11" y="38"/>
                    <a:pt x="11" y="38"/>
                  </a:cubicBezTo>
                  <a:cubicBezTo>
                    <a:pt x="9" y="38"/>
                    <a:pt x="7" y="38"/>
                    <a:pt x="6" y="38"/>
                  </a:cubicBezTo>
                  <a:cubicBezTo>
                    <a:pt x="0" y="38"/>
                    <a:pt x="1" y="36"/>
                    <a:pt x="2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1" y="13"/>
                    <a:pt x="1" y="13"/>
                    <a:pt x="1" y="13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09120" y="6653520"/>
              <a:ext cx="48960" cy="453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9" y="0"/>
                  </a:moveTo>
                  <a:cubicBezTo>
                    <a:pt x="28" y="0"/>
                    <a:pt x="32" y="6"/>
                    <a:pt x="30" y="15"/>
                  </a:cubicBezTo>
                  <a:cubicBezTo>
                    <a:pt x="29" y="24"/>
                    <a:pt x="22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lose/>
                  <a:moveTo>
                    <a:pt x="14" y="26"/>
                  </a:moveTo>
                  <a:cubicBezTo>
                    <a:pt x="21" y="26"/>
                    <a:pt x="24" y="20"/>
                    <a:pt x="25" y="15"/>
                  </a:cubicBezTo>
                  <a:cubicBezTo>
                    <a:pt x="26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7" y="26"/>
                    <a:pt x="14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61680" y="6653520"/>
              <a:ext cx="31320" cy="439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6" y="1"/>
                  </a:moveTo>
                  <a:cubicBezTo>
                    <a:pt x="11" y="1"/>
                    <a:pt x="11" y="1"/>
                    <a:pt x="11" y="1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3" y="2"/>
                    <a:pt x="16" y="0"/>
                    <a:pt x="21" y="0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9" y="6"/>
                    <a:pt x="18" y="6"/>
                    <a:pt x="17" y="6"/>
                  </a:cubicBezTo>
                  <a:cubicBezTo>
                    <a:pt x="12" y="6"/>
                    <a:pt x="9" y="10"/>
                    <a:pt x="8" y="13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51360" y="6272280"/>
              <a:ext cx="114120" cy="6156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16520" y="6305040"/>
              <a:ext cx="112320" cy="6336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54" y="84"/>
                  </a:moveTo>
                  <a:lnTo>
                    <a:pt x="144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4" y="84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679880" y="6338520"/>
              <a:ext cx="114120" cy="6480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583040" y="6396840"/>
              <a:ext cx="114120" cy="6480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648200" y="6431760"/>
              <a:ext cx="112320" cy="6156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488000" y="6452640"/>
              <a:ext cx="112320" cy="644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6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551360" y="6485760"/>
              <a:ext cx="114120" cy="6480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454880" y="6545880"/>
              <a:ext cx="114120" cy="644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794360" y="6438240"/>
              <a:ext cx="91800" cy="17208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12" y="45"/>
                  </a:moveTo>
                  <a:cubicBezTo>
                    <a:pt x="0" y="45"/>
                    <a:pt x="0" y="45"/>
                    <a:pt x="0" y="45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13"/>
                    <a:pt x="24" y="0"/>
                    <a:pt x="44" y="0"/>
                  </a:cubicBezTo>
                  <a:cubicBezTo>
                    <a:pt x="49" y="0"/>
                    <a:pt x="57" y="0"/>
                    <a:pt x="59" y="1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49" y="19"/>
                    <a:pt x="49" y="19"/>
                    <a:pt x="49" y="19"/>
                  </a:cubicBezTo>
                  <a:cubicBezTo>
                    <a:pt x="45" y="19"/>
                    <a:pt x="41" y="20"/>
                    <a:pt x="40" y="25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3" y="110"/>
                    <a:pt x="23" y="110"/>
                    <a:pt x="23" y="110"/>
                  </a:cubicBezTo>
                  <a:cubicBezTo>
                    <a:pt x="0" y="110"/>
                    <a:pt x="0" y="110"/>
                    <a:pt x="0" y="110"/>
                  </a:cubicBezTo>
                  <a:lnTo>
                    <a:pt x="1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868520" y="6481080"/>
              <a:ext cx="96480" cy="12924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16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44" y="4"/>
                    <a:pt x="53" y="1"/>
                    <a:pt x="62" y="0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41" y="23"/>
                    <a:pt x="35" y="26"/>
                    <a:pt x="33" y="35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0" y="82"/>
                    <a:pt x="0" y="82"/>
                    <a:pt x="0" y="82"/>
                  </a:cubicBez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5560" y="6479280"/>
              <a:ext cx="134640" cy="132840"/>
            </a:xfrm>
            <a:custGeom>
              <a:avLst/>
              <a:gdLst/>
              <a:ahLst/>
              <a:rect l="l" t="t" r="r" b="b"/>
              <a:pathLst>
                <a:path w="87" h="86">
                  <a:moveTo>
                    <a:pt x="76" y="67"/>
                  </a:moveTo>
                  <a:cubicBezTo>
                    <a:pt x="75" y="72"/>
                    <a:pt x="74" y="79"/>
                    <a:pt x="75" y="84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2" y="81"/>
                    <a:pt x="52" y="78"/>
                    <a:pt x="53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47" y="82"/>
                    <a:pt x="34" y="86"/>
                    <a:pt x="26" y="86"/>
                  </a:cubicBezTo>
                  <a:cubicBezTo>
                    <a:pt x="10" y="86"/>
                    <a:pt x="0" y="77"/>
                    <a:pt x="3" y="62"/>
                  </a:cubicBezTo>
                  <a:cubicBezTo>
                    <a:pt x="7" y="42"/>
                    <a:pt x="24" y="35"/>
                    <a:pt x="51" y="32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24"/>
                    <a:pt x="61" y="24"/>
                    <a:pt x="61" y="24"/>
                  </a:cubicBezTo>
                  <a:cubicBezTo>
                    <a:pt x="62" y="17"/>
                    <a:pt x="58" y="15"/>
                    <a:pt x="51" y="15"/>
                  </a:cubicBezTo>
                  <a:cubicBezTo>
                    <a:pt x="44" y="15"/>
                    <a:pt x="40" y="18"/>
                    <a:pt x="3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9" y="2"/>
                    <a:pt x="41" y="0"/>
                    <a:pt x="52" y="0"/>
                  </a:cubicBezTo>
                  <a:cubicBezTo>
                    <a:pt x="75" y="0"/>
                    <a:pt x="87" y="5"/>
                    <a:pt x="84" y="24"/>
                  </a:cubicBezTo>
                  <a:lnTo>
                    <a:pt x="76" y="67"/>
                  </a:lnTo>
                  <a:close/>
                  <a:moveTo>
                    <a:pt x="57" y="44"/>
                  </a:moveTo>
                  <a:cubicBezTo>
                    <a:pt x="40" y="49"/>
                    <a:pt x="40" y="49"/>
                    <a:pt x="40" y="49"/>
                  </a:cubicBezTo>
                  <a:cubicBezTo>
                    <a:pt x="34" y="50"/>
                    <a:pt x="28" y="53"/>
                    <a:pt x="27" y="59"/>
                  </a:cubicBezTo>
                  <a:cubicBezTo>
                    <a:pt x="25" y="66"/>
                    <a:pt x="30" y="68"/>
                    <a:pt x="36" y="68"/>
                  </a:cubicBezTo>
                  <a:cubicBezTo>
                    <a:pt x="45" y="68"/>
                    <a:pt x="54" y="62"/>
                    <a:pt x="56" y="50"/>
                  </a:cubicBezTo>
                  <a:lnTo>
                    <a:pt x="5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23800" y="6441480"/>
              <a:ext cx="69480" cy="170640"/>
            </a:xfrm>
            <a:custGeom>
              <a:avLst/>
              <a:gdLst/>
              <a:ahLst/>
              <a:rect l="l" t="t" r="r" b="b"/>
              <a:pathLst>
                <a:path w="90" h="218">
                  <a:moveTo>
                    <a:pt x="0" y="218"/>
                  </a:moveTo>
                  <a:lnTo>
                    <a:pt x="42" y="0"/>
                  </a:lnTo>
                  <a:lnTo>
                    <a:pt x="90" y="0"/>
                  </a:lnTo>
                  <a:lnTo>
                    <a:pt x="48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956000" y="6479280"/>
              <a:ext cx="137520" cy="13284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7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092440" y="6479280"/>
              <a:ext cx="139320" cy="13284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9" y="0"/>
                    <a:pt x="10" y="17"/>
                    <a:pt x="5" y="45"/>
                  </a:cubicBezTo>
                  <a:cubicBezTo>
                    <a:pt x="0" y="68"/>
                    <a:pt x="12" y="86"/>
                    <a:pt x="37" y="86"/>
                  </a:cubicBezTo>
                  <a:cubicBezTo>
                    <a:pt x="55" y="86"/>
                    <a:pt x="69" y="79"/>
                    <a:pt x="81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7" y="18"/>
                    <a:pt x="65" y="21"/>
                    <a:pt x="63" y="3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83920" y="6479280"/>
              <a:ext cx="137520" cy="13284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41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8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6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3" y="55"/>
                    <a:pt x="63" y="55"/>
                    <a:pt x="63" y="55"/>
                  </a:cubicBezTo>
                  <a:cubicBezTo>
                    <a:pt x="55" y="64"/>
                    <a:pt x="50" y="68"/>
                    <a:pt x="41" y="68"/>
                  </a:cubicBezTo>
                  <a:close/>
                  <a:moveTo>
                    <a:pt x="49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3" y="22"/>
                    <a:pt x="42" y="18"/>
                    <a:pt x="49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355600" y="6479280"/>
              <a:ext cx="132840" cy="1328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63" y="56"/>
                  </a:moveTo>
                  <a:cubicBezTo>
                    <a:pt x="57" y="65"/>
                    <a:pt x="51" y="67"/>
                    <a:pt x="44" y="67"/>
                  </a:cubicBezTo>
                  <a:cubicBezTo>
                    <a:pt x="31" y="67"/>
                    <a:pt x="27" y="57"/>
                    <a:pt x="30" y="43"/>
                  </a:cubicBezTo>
                  <a:cubicBezTo>
                    <a:pt x="33" y="29"/>
                    <a:pt x="40" y="19"/>
                    <a:pt x="53" y="19"/>
                  </a:cubicBezTo>
                  <a:cubicBezTo>
                    <a:pt x="57" y="19"/>
                    <a:pt x="65" y="21"/>
                    <a:pt x="67" y="31"/>
                  </a:cubicBezTo>
                  <a:cubicBezTo>
                    <a:pt x="86" y="19"/>
                    <a:pt x="86" y="19"/>
                    <a:pt x="86" y="19"/>
                  </a:cubicBezTo>
                  <a:cubicBezTo>
                    <a:pt x="81" y="6"/>
                    <a:pt x="69" y="0"/>
                    <a:pt x="54" y="0"/>
                  </a:cubicBezTo>
                  <a:cubicBezTo>
                    <a:pt x="31" y="0"/>
                    <a:pt x="10" y="16"/>
                    <a:pt x="5" y="43"/>
                  </a:cubicBezTo>
                  <a:cubicBezTo>
                    <a:pt x="0" y="70"/>
                    <a:pt x="14" y="86"/>
                    <a:pt x="38" y="86"/>
                  </a:cubicBezTo>
                  <a:cubicBezTo>
                    <a:pt x="54" y="86"/>
                    <a:pt x="69" y="77"/>
                    <a:pt x="79" y="64"/>
                  </a:cubicBezTo>
                  <a:lnTo>
                    <a:pt x="6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220960" y="6479280"/>
              <a:ext cx="142560" cy="13284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38" y="24"/>
                  </a:moveTo>
                  <a:cubicBezTo>
                    <a:pt x="39" y="20"/>
                    <a:pt x="43" y="18"/>
                    <a:pt x="49" y="18"/>
                  </a:cubicBezTo>
                  <a:cubicBezTo>
                    <a:pt x="57" y="18"/>
                    <a:pt x="66" y="21"/>
                    <a:pt x="70" y="26"/>
                  </a:cubicBezTo>
                  <a:cubicBezTo>
                    <a:pt x="90" y="14"/>
                    <a:pt x="90" y="14"/>
                    <a:pt x="90" y="14"/>
                  </a:cubicBezTo>
                  <a:cubicBezTo>
                    <a:pt x="79" y="4"/>
                    <a:pt x="66" y="0"/>
                    <a:pt x="54" y="0"/>
                  </a:cubicBezTo>
                  <a:cubicBezTo>
                    <a:pt x="37" y="0"/>
                    <a:pt x="18" y="8"/>
                    <a:pt x="14" y="29"/>
                  </a:cubicBezTo>
                  <a:cubicBezTo>
                    <a:pt x="8" y="58"/>
                    <a:pt x="59" y="47"/>
                    <a:pt x="56" y="60"/>
                  </a:cubicBezTo>
                  <a:cubicBezTo>
                    <a:pt x="55" y="67"/>
                    <a:pt x="45" y="68"/>
                    <a:pt x="41" y="68"/>
                  </a:cubicBezTo>
                  <a:cubicBezTo>
                    <a:pt x="31" y="68"/>
                    <a:pt x="24" y="64"/>
                    <a:pt x="18" y="5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9" y="81"/>
                    <a:pt x="20" y="86"/>
                    <a:pt x="37" y="86"/>
                  </a:cubicBezTo>
                  <a:cubicBezTo>
                    <a:pt x="55" y="86"/>
                    <a:pt x="76" y="78"/>
                    <a:pt x="80" y="57"/>
                  </a:cubicBezTo>
                  <a:cubicBezTo>
                    <a:pt x="86" y="26"/>
                    <a:pt x="35" y="38"/>
                    <a:pt x="38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"/>
          <p:cNvSpPr/>
          <p:nvPr/>
        </p:nvSpPr>
        <p:spPr>
          <a:xfrm flipH="1">
            <a:off x="130320" y="122400"/>
            <a:ext cx="947520" cy="161640"/>
          </a:xfrm>
          <a:custGeom>
            <a:avLst/>
            <a:gdLst/>
            <a:ahLst/>
            <a:rect l="l" t="t" r="r" b="b"/>
            <a:pathLst>
              <a:path w="597" h="102">
                <a:moveTo>
                  <a:pt x="0" y="102"/>
                </a:moveTo>
                <a:lnTo>
                  <a:pt x="597" y="102"/>
                </a:lnTo>
                <a:lnTo>
                  <a:pt x="597" y="0"/>
                </a:lnTo>
                <a:lnTo>
                  <a:pt x="45" y="0"/>
                </a:lnTo>
                <a:lnTo>
                  <a:pt x="0" y="45"/>
                </a:lnTo>
                <a:lnTo>
                  <a:pt x="0" y="102"/>
                </a:lnTo>
                <a:close/>
              </a:path>
            </a:pathLst>
          </a:custGeom>
          <a:solidFill>
            <a:srgbClr val="cdd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33200" y="5870520"/>
            <a:ext cx="8883720" cy="131760"/>
          </a:xfrm>
          <a:prstGeom prst="rect">
            <a:avLst/>
          </a:prstGeom>
          <a:solidFill>
            <a:srgbClr val="99a2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1114560" y="119160"/>
            <a:ext cx="7906320" cy="162000"/>
            <a:chOff x="1114560" y="119160"/>
            <a:chExt cx="7906320" cy="162000"/>
          </a:xfrm>
        </p:grpSpPr>
        <p:sp>
          <p:nvSpPr>
            <p:cNvPr id="40" name=""/>
            <p:cNvSpPr/>
            <p:nvPr/>
          </p:nvSpPr>
          <p:spPr>
            <a:xfrm flipH="1">
              <a:off x="2149920" y="119160"/>
              <a:ext cx="6870600" cy="162000"/>
            </a:xfrm>
            <a:custGeom>
              <a:avLst/>
              <a:gdLst/>
              <a:ahLst/>
              <a:rect l="l" t="t" r="r" b="b"/>
              <a:pathLst>
                <a:path w="4330" h="104">
                  <a:moveTo>
                    <a:pt x="0" y="0"/>
                  </a:moveTo>
                  <a:lnTo>
                    <a:pt x="0" y="104"/>
                  </a:lnTo>
                  <a:lnTo>
                    <a:pt x="4330" y="104"/>
                  </a:lnTo>
                  <a:lnTo>
                    <a:pt x="4330" y="48"/>
                  </a:lnTo>
                  <a:lnTo>
                    <a:pt x="4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1114560" y="119160"/>
              <a:ext cx="6870240" cy="162000"/>
            </a:xfrm>
            <a:custGeom>
              <a:avLst/>
              <a:gdLst/>
              <a:ahLst/>
              <a:rect l="l" t="t" r="r" b="b"/>
              <a:pathLst>
                <a:path w="4330" h="104">
                  <a:moveTo>
                    <a:pt x="0" y="0"/>
                  </a:moveTo>
                  <a:lnTo>
                    <a:pt x="0" y="104"/>
                  </a:lnTo>
                  <a:lnTo>
                    <a:pt x="4330" y="104"/>
                  </a:lnTo>
                  <a:lnTo>
                    <a:pt x="4330" y="48"/>
                  </a:lnTo>
                  <a:lnTo>
                    <a:pt x="4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" name=""/>
          <p:cNvSpPr/>
          <p:nvPr/>
        </p:nvSpPr>
        <p:spPr>
          <a:xfrm>
            <a:off x="285840" y="6492960"/>
            <a:ext cx="54385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reescale™ and the Freescale logo are trademarks of Freescale Semiconductor, Inc. All other product or service names are the property of their respective owners. © Freescale Semiconductor, Inc. 2006. The Power Architecture and Power.org word marks and the Power and Power.org logos and related marks are trademarks and service marks licensed by Power.org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1"/>
          </p:nvPr>
        </p:nvSpPr>
        <p:spPr>
          <a:xfrm>
            <a:off x="5871960" y="6505560"/>
            <a:ext cx="67788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1ECEA-E4AA-458D-946C-BB85FB140E8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7278840" y="6148440"/>
            <a:ext cx="1767960" cy="474120"/>
            <a:chOff x="7278840" y="6148440"/>
            <a:chExt cx="1767960" cy="474120"/>
          </a:xfrm>
        </p:grpSpPr>
        <p:sp>
          <p:nvSpPr>
            <p:cNvPr id="81" name=""/>
            <p:cNvSpPr/>
            <p:nvPr/>
          </p:nvSpPr>
          <p:spPr>
            <a:xfrm>
              <a:off x="8737920" y="6333480"/>
              <a:ext cx="30888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05040" y="6570360"/>
              <a:ext cx="50400" cy="522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19"/>
                  </a:moveTo>
                  <a:cubicBezTo>
                    <a:pt x="6" y="25"/>
                    <a:pt x="10" y="26"/>
                    <a:pt x="14" y="26"/>
                  </a:cubicBezTo>
                  <a:cubicBezTo>
                    <a:pt x="16" y="26"/>
                    <a:pt x="20" y="26"/>
                    <a:pt x="21" y="21"/>
                  </a:cubicBezTo>
                  <a:cubicBezTo>
                    <a:pt x="22" y="14"/>
                    <a:pt x="2" y="20"/>
                    <a:pt x="5" y="8"/>
                  </a:cubicBezTo>
                  <a:cubicBezTo>
                    <a:pt x="6" y="2"/>
                    <a:pt x="12" y="0"/>
                    <a:pt x="17" y="0"/>
                  </a:cubicBezTo>
                  <a:cubicBezTo>
                    <a:pt x="21" y="0"/>
                    <a:pt x="29" y="2"/>
                    <a:pt x="28" y="9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6"/>
                    <a:pt x="20" y="4"/>
                    <a:pt x="17" y="4"/>
                  </a:cubicBezTo>
                  <a:cubicBezTo>
                    <a:pt x="14" y="4"/>
                    <a:pt x="10" y="4"/>
                    <a:pt x="10" y="8"/>
                  </a:cubicBezTo>
                  <a:cubicBezTo>
                    <a:pt x="8" y="15"/>
                    <a:pt x="28" y="10"/>
                    <a:pt x="26" y="21"/>
                  </a:cubicBezTo>
                  <a:cubicBezTo>
                    <a:pt x="25" y="27"/>
                    <a:pt x="18" y="30"/>
                    <a:pt x="12" y="30"/>
                  </a:cubicBezTo>
                  <a:cubicBezTo>
                    <a:pt x="6" y="30"/>
                    <a:pt x="0" y="27"/>
                    <a:pt x="1" y="20"/>
                  </a:cubicBez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57600" y="6570360"/>
              <a:ext cx="50400" cy="522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7" y="16"/>
                  </a:moveTo>
                  <a:cubicBezTo>
                    <a:pt x="5" y="22"/>
                    <a:pt x="8" y="26"/>
                    <a:pt x="13" y="26"/>
                  </a:cubicBezTo>
                  <a:cubicBezTo>
                    <a:pt x="18" y="26"/>
                    <a:pt x="21" y="24"/>
                    <a:pt x="23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4" y="27"/>
                    <a:pt x="19" y="30"/>
                    <a:pt x="12" y="30"/>
                  </a:cubicBezTo>
                  <a:cubicBezTo>
                    <a:pt x="3" y="30"/>
                    <a:pt x="0" y="23"/>
                    <a:pt x="1" y="15"/>
                  </a:cubicBezTo>
                  <a:cubicBezTo>
                    <a:pt x="3" y="6"/>
                    <a:pt x="9" y="0"/>
                    <a:pt x="18" y="0"/>
                  </a:cubicBezTo>
                  <a:cubicBezTo>
                    <a:pt x="27" y="0"/>
                    <a:pt x="30" y="6"/>
                    <a:pt x="29" y="15"/>
                  </a:cubicBezTo>
                  <a:cubicBezTo>
                    <a:pt x="28" y="16"/>
                    <a:pt x="28" y="16"/>
                    <a:pt x="28" y="16"/>
                  </a:cubicBezTo>
                  <a:lnTo>
                    <a:pt x="7" y="16"/>
                  </a:lnTo>
                  <a:close/>
                  <a:moveTo>
                    <a:pt x="24" y="12"/>
                  </a:moveTo>
                  <a:cubicBezTo>
                    <a:pt x="24" y="8"/>
                    <a:pt x="22" y="4"/>
                    <a:pt x="17" y="4"/>
                  </a:cubicBezTo>
                  <a:cubicBezTo>
                    <a:pt x="12" y="4"/>
                    <a:pt x="8" y="8"/>
                    <a:pt x="7" y="12"/>
                  </a:cubicBezTo>
                  <a:lnTo>
                    <a:pt x="2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212680" y="6570360"/>
              <a:ext cx="75960" cy="5040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2" y="2"/>
                    <a:pt x="15" y="0"/>
                    <a:pt x="18" y="0"/>
                  </a:cubicBezTo>
                  <a:cubicBezTo>
                    <a:pt x="21" y="0"/>
                    <a:pt x="25" y="1"/>
                    <a:pt x="26" y="5"/>
                  </a:cubicBezTo>
                  <a:cubicBezTo>
                    <a:pt x="28" y="2"/>
                    <a:pt x="32" y="0"/>
                    <a:pt x="35" y="0"/>
                  </a:cubicBezTo>
                  <a:cubicBezTo>
                    <a:pt x="40" y="0"/>
                    <a:pt x="44" y="2"/>
                    <a:pt x="43" y="1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7"/>
                    <a:pt x="37" y="4"/>
                    <a:pt x="34" y="4"/>
                  </a:cubicBezTo>
                  <a:cubicBezTo>
                    <a:pt x="31" y="4"/>
                    <a:pt x="26" y="6"/>
                    <a:pt x="26" y="1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7"/>
                    <a:pt x="20" y="4"/>
                    <a:pt x="17" y="4"/>
                  </a:cubicBezTo>
                  <a:cubicBezTo>
                    <a:pt x="14" y="4"/>
                    <a:pt x="9" y="6"/>
                    <a:pt x="8" y="10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93680" y="6548400"/>
              <a:ext cx="21960" cy="72360"/>
            </a:xfrm>
            <a:custGeom>
              <a:avLst/>
              <a:gdLst/>
              <a:ahLst/>
              <a:rect l="l" t="t" r="r" b="b"/>
              <a:pathLst>
                <a:path w="26" h="86">
                  <a:moveTo>
                    <a:pt x="10" y="30"/>
                  </a:moveTo>
                  <a:lnTo>
                    <a:pt x="20" y="30"/>
                  </a:lnTo>
                  <a:lnTo>
                    <a:pt x="8" y="86"/>
                  </a:lnTo>
                  <a:lnTo>
                    <a:pt x="0" y="86"/>
                  </a:lnTo>
                  <a:lnTo>
                    <a:pt x="10" y="30"/>
                  </a:lnTo>
                  <a:close/>
                  <a:moveTo>
                    <a:pt x="16" y="0"/>
                  </a:moveTo>
                  <a:lnTo>
                    <a:pt x="26" y="0"/>
                  </a:lnTo>
                  <a:lnTo>
                    <a:pt x="24" y="12"/>
                  </a:lnTo>
                  <a:lnTo>
                    <a:pt x="14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12760" y="6570360"/>
              <a:ext cx="53640" cy="522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9" y="4"/>
                  </a:cubicBezTo>
                  <a:cubicBezTo>
                    <a:pt x="12" y="4"/>
                    <a:pt x="8" y="10"/>
                    <a:pt x="7" y="15"/>
                  </a:cubicBezTo>
                  <a:cubicBezTo>
                    <a:pt x="6" y="21"/>
                    <a:pt x="8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69640" y="6570360"/>
              <a:ext cx="53640" cy="522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8" y="0"/>
                  </a:moveTo>
                  <a:cubicBezTo>
                    <a:pt x="27" y="0"/>
                    <a:pt x="31" y="6"/>
                    <a:pt x="30" y="15"/>
                  </a:cubicBezTo>
                  <a:cubicBezTo>
                    <a:pt x="28" y="24"/>
                    <a:pt x="21" y="30"/>
                    <a:pt x="13" y="30"/>
                  </a:cubicBezTo>
                  <a:cubicBezTo>
                    <a:pt x="4" y="30"/>
                    <a:pt x="0" y="24"/>
                    <a:pt x="1" y="15"/>
                  </a:cubicBezTo>
                  <a:cubicBezTo>
                    <a:pt x="3" y="6"/>
                    <a:pt x="10" y="0"/>
                    <a:pt x="18" y="0"/>
                  </a:cubicBezTo>
                  <a:close/>
                  <a:moveTo>
                    <a:pt x="13" y="26"/>
                  </a:moveTo>
                  <a:cubicBezTo>
                    <a:pt x="20" y="26"/>
                    <a:pt x="23" y="20"/>
                    <a:pt x="24" y="15"/>
                  </a:cubicBezTo>
                  <a:cubicBezTo>
                    <a:pt x="25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6" y="26"/>
                    <a:pt x="13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425440" y="6570360"/>
              <a:ext cx="50400" cy="504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2" y="2"/>
                    <a:pt x="15" y="0"/>
                    <a:pt x="19" y="0"/>
                  </a:cubicBezTo>
                  <a:cubicBezTo>
                    <a:pt x="25" y="0"/>
                    <a:pt x="29" y="2"/>
                    <a:pt x="27" y="10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3" y="6"/>
                    <a:pt x="21" y="4"/>
                    <a:pt x="17" y="4"/>
                  </a:cubicBezTo>
                  <a:cubicBezTo>
                    <a:pt x="13" y="4"/>
                    <a:pt x="9" y="7"/>
                    <a:pt x="8" y="12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477640" y="6548400"/>
              <a:ext cx="60120" cy="7416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26" y="43"/>
                  </a:moveTo>
                  <a:cubicBezTo>
                    <a:pt x="21" y="43"/>
                    <a:pt x="21" y="43"/>
                    <a:pt x="21" y="43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19" y="43"/>
                    <a:pt x="16" y="44"/>
                    <a:pt x="12" y="44"/>
                  </a:cubicBezTo>
                  <a:cubicBezTo>
                    <a:pt x="2" y="44"/>
                    <a:pt x="0" y="37"/>
                    <a:pt x="1" y="29"/>
                  </a:cubicBezTo>
                  <a:cubicBezTo>
                    <a:pt x="3" y="21"/>
                    <a:pt x="8" y="14"/>
                    <a:pt x="18" y="14"/>
                  </a:cubicBezTo>
                  <a:cubicBezTo>
                    <a:pt x="22" y="14"/>
                    <a:pt x="25" y="15"/>
                    <a:pt x="26" y="1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26" y="43"/>
                  </a:lnTo>
                  <a:close/>
                  <a:moveTo>
                    <a:pt x="13" y="40"/>
                  </a:moveTo>
                  <a:cubicBezTo>
                    <a:pt x="20" y="40"/>
                    <a:pt x="23" y="35"/>
                    <a:pt x="24" y="29"/>
                  </a:cubicBezTo>
                  <a:cubicBezTo>
                    <a:pt x="25" y="23"/>
                    <a:pt x="23" y="18"/>
                    <a:pt x="17" y="18"/>
                  </a:cubicBezTo>
                  <a:cubicBezTo>
                    <a:pt x="11" y="18"/>
                    <a:pt x="7" y="23"/>
                    <a:pt x="6" y="29"/>
                  </a:cubicBezTo>
                  <a:cubicBezTo>
                    <a:pt x="5" y="35"/>
                    <a:pt x="7" y="40"/>
                    <a:pt x="13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538120" y="6572160"/>
              <a:ext cx="48960" cy="504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3" y="28"/>
                  </a:moveTo>
                  <a:cubicBezTo>
                    <a:pt x="18" y="28"/>
                    <a:pt x="18" y="28"/>
                    <a:pt x="18" y="28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7" y="27"/>
                    <a:pt x="13" y="29"/>
                    <a:pt x="10" y="29"/>
                  </a:cubicBezTo>
                  <a:cubicBezTo>
                    <a:pt x="4" y="29"/>
                    <a:pt x="0" y="27"/>
                    <a:pt x="1" y="19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23"/>
                    <a:pt x="8" y="25"/>
                    <a:pt x="11" y="25"/>
                  </a:cubicBezTo>
                  <a:cubicBezTo>
                    <a:pt x="16" y="25"/>
                    <a:pt x="20" y="22"/>
                    <a:pt x="21" y="1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588880" y="6570360"/>
              <a:ext cx="53640" cy="522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1"/>
                    <a:pt x="7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45760" y="6557760"/>
              <a:ext cx="29880" cy="6480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" y="9"/>
                  </a:moveTo>
                  <a:cubicBezTo>
                    <a:pt x="6" y="9"/>
                    <a:pt x="6" y="9"/>
                    <a:pt x="6" y="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3"/>
                    <a:pt x="6" y="34"/>
                    <a:pt x="8" y="34"/>
                  </a:cubicBezTo>
                  <a:cubicBezTo>
                    <a:pt x="9" y="34"/>
                    <a:pt x="10" y="34"/>
                    <a:pt x="11" y="33"/>
                  </a:cubicBezTo>
                  <a:cubicBezTo>
                    <a:pt x="11" y="38"/>
                    <a:pt x="11" y="38"/>
                    <a:pt x="11" y="38"/>
                  </a:cubicBezTo>
                  <a:cubicBezTo>
                    <a:pt x="9" y="38"/>
                    <a:pt x="7" y="38"/>
                    <a:pt x="6" y="38"/>
                  </a:cubicBezTo>
                  <a:cubicBezTo>
                    <a:pt x="0" y="38"/>
                    <a:pt x="1" y="36"/>
                    <a:pt x="2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1" y="13"/>
                    <a:pt x="1" y="13"/>
                    <a:pt x="1" y="13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72760" y="6570360"/>
              <a:ext cx="53640" cy="52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9" y="0"/>
                  </a:moveTo>
                  <a:cubicBezTo>
                    <a:pt x="28" y="0"/>
                    <a:pt x="32" y="6"/>
                    <a:pt x="30" y="15"/>
                  </a:cubicBezTo>
                  <a:cubicBezTo>
                    <a:pt x="29" y="24"/>
                    <a:pt x="22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lose/>
                  <a:moveTo>
                    <a:pt x="14" y="26"/>
                  </a:moveTo>
                  <a:cubicBezTo>
                    <a:pt x="21" y="26"/>
                    <a:pt x="24" y="20"/>
                    <a:pt x="25" y="15"/>
                  </a:cubicBezTo>
                  <a:cubicBezTo>
                    <a:pt x="26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7" y="26"/>
                    <a:pt x="14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729640" y="6570360"/>
              <a:ext cx="34560" cy="504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6" y="1"/>
                  </a:moveTo>
                  <a:cubicBezTo>
                    <a:pt x="11" y="1"/>
                    <a:pt x="11" y="1"/>
                    <a:pt x="11" y="1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3" y="2"/>
                    <a:pt x="16" y="0"/>
                    <a:pt x="21" y="0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9" y="6"/>
                    <a:pt x="18" y="6"/>
                    <a:pt x="17" y="6"/>
                  </a:cubicBezTo>
                  <a:cubicBezTo>
                    <a:pt x="12" y="6"/>
                    <a:pt x="9" y="10"/>
                    <a:pt x="8" y="13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84680" y="6148440"/>
              <a:ext cx="126720" cy="6948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57760" y="6186240"/>
              <a:ext cx="123480" cy="6948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54" y="84"/>
                  </a:moveTo>
                  <a:lnTo>
                    <a:pt x="144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4" y="84"/>
                  </a:lnTo>
                  <a:close/>
                </a:path>
              </a:pathLst>
            </a:custGeom>
            <a:solidFill>
              <a:srgbClr val="fed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27600" y="6221160"/>
              <a:ext cx="126720" cy="7092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21040" y="6285960"/>
              <a:ext cx="126720" cy="7092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ed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2680" y="6325560"/>
              <a:ext cx="124920" cy="6948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16280" y="6348960"/>
              <a:ext cx="123480" cy="7272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6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84680" y="6385320"/>
              <a:ext cx="126720" cy="7128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ed9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78840" y="6451920"/>
              <a:ext cx="126360" cy="7092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54680" y="6334920"/>
              <a:ext cx="101160" cy="18972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12" y="45"/>
                  </a:moveTo>
                  <a:cubicBezTo>
                    <a:pt x="0" y="45"/>
                    <a:pt x="0" y="45"/>
                    <a:pt x="0" y="45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13"/>
                    <a:pt x="24" y="0"/>
                    <a:pt x="44" y="0"/>
                  </a:cubicBezTo>
                  <a:cubicBezTo>
                    <a:pt x="49" y="0"/>
                    <a:pt x="57" y="0"/>
                    <a:pt x="59" y="1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49" y="19"/>
                    <a:pt x="49" y="19"/>
                    <a:pt x="49" y="19"/>
                  </a:cubicBezTo>
                  <a:cubicBezTo>
                    <a:pt x="45" y="19"/>
                    <a:pt x="41" y="20"/>
                    <a:pt x="40" y="25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3" y="110"/>
                    <a:pt x="23" y="110"/>
                    <a:pt x="23" y="110"/>
                  </a:cubicBezTo>
                  <a:cubicBezTo>
                    <a:pt x="0" y="110"/>
                    <a:pt x="0" y="110"/>
                    <a:pt x="0" y="110"/>
                  </a:cubicBezTo>
                  <a:lnTo>
                    <a:pt x="1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40000" y="6380640"/>
              <a:ext cx="107640" cy="14220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16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44" y="4"/>
                    <a:pt x="53" y="1"/>
                    <a:pt x="62" y="0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41" y="23"/>
                    <a:pt x="35" y="26"/>
                    <a:pt x="33" y="35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0" y="82"/>
                    <a:pt x="0" y="82"/>
                    <a:pt x="0" y="82"/>
                  </a:cubicBez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23640" y="6379200"/>
              <a:ext cx="149040" cy="146880"/>
            </a:xfrm>
            <a:custGeom>
              <a:avLst/>
              <a:gdLst/>
              <a:ahLst/>
              <a:rect l="l" t="t" r="r" b="b"/>
              <a:pathLst>
                <a:path w="87" h="86">
                  <a:moveTo>
                    <a:pt x="76" y="67"/>
                  </a:moveTo>
                  <a:cubicBezTo>
                    <a:pt x="75" y="72"/>
                    <a:pt x="74" y="79"/>
                    <a:pt x="75" y="84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2" y="81"/>
                    <a:pt x="52" y="78"/>
                    <a:pt x="53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47" y="82"/>
                    <a:pt x="34" y="86"/>
                    <a:pt x="26" y="86"/>
                  </a:cubicBezTo>
                  <a:cubicBezTo>
                    <a:pt x="10" y="86"/>
                    <a:pt x="0" y="77"/>
                    <a:pt x="3" y="62"/>
                  </a:cubicBezTo>
                  <a:cubicBezTo>
                    <a:pt x="7" y="42"/>
                    <a:pt x="24" y="35"/>
                    <a:pt x="51" y="32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24"/>
                    <a:pt x="61" y="24"/>
                    <a:pt x="61" y="24"/>
                  </a:cubicBezTo>
                  <a:cubicBezTo>
                    <a:pt x="62" y="17"/>
                    <a:pt x="58" y="15"/>
                    <a:pt x="51" y="15"/>
                  </a:cubicBezTo>
                  <a:cubicBezTo>
                    <a:pt x="44" y="15"/>
                    <a:pt x="40" y="18"/>
                    <a:pt x="3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9" y="2"/>
                    <a:pt x="41" y="0"/>
                    <a:pt x="52" y="0"/>
                  </a:cubicBezTo>
                  <a:cubicBezTo>
                    <a:pt x="75" y="0"/>
                    <a:pt x="87" y="5"/>
                    <a:pt x="84" y="24"/>
                  </a:cubicBezTo>
                  <a:lnTo>
                    <a:pt x="76" y="67"/>
                  </a:lnTo>
                  <a:close/>
                  <a:moveTo>
                    <a:pt x="57" y="44"/>
                  </a:moveTo>
                  <a:cubicBezTo>
                    <a:pt x="40" y="49"/>
                    <a:pt x="40" y="49"/>
                    <a:pt x="40" y="49"/>
                  </a:cubicBezTo>
                  <a:cubicBezTo>
                    <a:pt x="34" y="50"/>
                    <a:pt x="28" y="53"/>
                    <a:pt x="27" y="59"/>
                  </a:cubicBezTo>
                  <a:cubicBezTo>
                    <a:pt x="25" y="66"/>
                    <a:pt x="30" y="68"/>
                    <a:pt x="36" y="68"/>
                  </a:cubicBezTo>
                  <a:cubicBezTo>
                    <a:pt x="45" y="68"/>
                    <a:pt x="54" y="62"/>
                    <a:pt x="56" y="50"/>
                  </a:cubicBezTo>
                  <a:lnTo>
                    <a:pt x="5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77720" y="6336720"/>
              <a:ext cx="77400" cy="187920"/>
            </a:xfrm>
            <a:custGeom>
              <a:avLst/>
              <a:gdLst/>
              <a:ahLst/>
              <a:rect l="l" t="t" r="r" b="b"/>
              <a:pathLst>
                <a:path w="90" h="218">
                  <a:moveTo>
                    <a:pt x="0" y="218"/>
                  </a:moveTo>
                  <a:lnTo>
                    <a:pt x="42" y="0"/>
                  </a:lnTo>
                  <a:lnTo>
                    <a:pt x="90" y="0"/>
                  </a:lnTo>
                  <a:lnTo>
                    <a:pt x="48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33600" y="6379200"/>
              <a:ext cx="153720" cy="14688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7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87680" y="6379200"/>
              <a:ext cx="153360" cy="14688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9" y="0"/>
                    <a:pt x="10" y="17"/>
                    <a:pt x="5" y="45"/>
                  </a:cubicBezTo>
                  <a:cubicBezTo>
                    <a:pt x="0" y="68"/>
                    <a:pt x="12" y="86"/>
                    <a:pt x="37" y="86"/>
                  </a:cubicBezTo>
                  <a:cubicBezTo>
                    <a:pt x="55" y="86"/>
                    <a:pt x="69" y="79"/>
                    <a:pt x="81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7" y="18"/>
                    <a:pt x="65" y="21"/>
                    <a:pt x="63" y="3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642520" y="6379200"/>
              <a:ext cx="151920" cy="14688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41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8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6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3" y="55"/>
                    <a:pt x="63" y="55"/>
                    <a:pt x="63" y="55"/>
                  </a:cubicBezTo>
                  <a:cubicBezTo>
                    <a:pt x="55" y="64"/>
                    <a:pt x="50" y="68"/>
                    <a:pt x="41" y="68"/>
                  </a:cubicBezTo>
                  <a:close/>
                  <a:moveTo>
                    <a:pt x="49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3" y="22"/>
                    <a:pt x="42" y="18"/>
                    <a:pt x="49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279280" y="6379200"/>
              <a:ext cx="147240" cy="14688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63" y="56"/>
                  </a:moveTo>
                  <a:cubicBezTo>
                    <a:pt x="57" y="65"/>
                    <a:pt x="51" y="67"/>
                    <a:pt x="44" y="67"/>
                  </a:cubicBezTo>
                  <a:cubicBezTo>
                    <a:pt x="31" y="67"/>
                    <a:pt x="27" y="57"/>
                    <a:pt x="30" y="43"/>
                  </a:cubicBezTo>
                  <a:cubicBezTo>
                    <a:pt x="33" y="29"/>
                    <a:pt x="40" y="19"/>
                    <a:pt x="53" y="19"/>
                  </a:cubicBezTo>
                  <a:cubicBezTo>
                    <a:pt x="57" y="19"/>
                    <a:pt x="65" y="21"/>
                    <a:pt x="67" y="31"/>
                  </a:cubicBezTo>
                  <a:cubicBezTo>
                    <a:pt x="86" y="19"/>
                    <a:pt x="86" y="19"/>
                    <a:pt x="86" y="19"/>
                  </a:cubicBezTo>
                  <a:cubicBezTo>
                    <a:pt x="81" y="6"/>
                    <a:pt x="69" y="0"/>
                    <a:pt x="54" y="0"/>
                  </a:cubicBezTo>
                  <a:cubicBezTo>
                    <a:pt x="31" y="0"/>
                    <a:pt x="10" y="16"/>
                    <a:pt x="5" y="43"/>
                  </a:cubicBezTo>
                  <a:cubicBezTo>
                    <a:pt x="0" y="70"/>
                    <a:pt x="14" y="86"/>
                    <a:pt x="38" y="86"/>
                  </a:cubicBezTo>
                  <a:cubicBezTo>
                    <a:pt x="54" y="86"/>
                    <a:pt x="69" y="77"/>
                    <a:pt x="79" y="64"/>
                  </a:cubicBezTo>
                  <a:lnTo>
                    <a:pt x="6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30600" y="6379200"/>
              <a:ext cx="156600" cy="14688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38" y="24"/>
                  </a:moveTo>
                  <a:cubicBezTo>
                    <a:pt x="39" y="20"/>
                    <a:pt x="43" y="18"/>
                    <a:pt x="49" y="18"/>
                  </a:cubicBezTo>
                  <a:cubicBezTo>
                    <a:pt x="57" y="18"/>
                    <a:pt x="66" y="21"/>
                    <a:pt x="70" y="26"/>
                  </a:cubicBezTo>
                  <a:cubicBezTo>
                    <a:pt x="90" y="14"/>
                    <a:pt x="90" y="14"/>
                    <a:pt x="90" y="14"/>
                  </a:cubicBezTo>
                  <a:cubicBezTo>
                    <a:pt x="79" y="4"/>
                    <a:pt x="66" y="0"/>
                    <a:pt x="54" y="0"/>
                  </a:cubicBezTo>
                  <a:cubicBezTo>
                    <a:pt x="37" y="0"/>
                    <a:pt x="18" y="8"/>
                    <a:pt x="14" y="29"/>
                  </a:cubicBezTo>
                  <a:cubicBezTo>
                    <a:pt x="8" y="58"/>
                    <a:pt x="59" y="47"/>
                    <a:pt x="56" y="60"/>
                  </a:cubicBezTo>
                  <a:cubicBezTo>
                    <a:pt x="55" y="67"/>
                    <a:pt x="45" y="68"/>
                    <a:pt x="41" y="68"/>
                  </a:cubicBezTo>
                  <a:cubicBezTo>
                    <a:pt x="31" y="68"/>
                    <a:pt x="24" y="64"/>
                    <a:pt x="18" y="5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9" y="81"/>
                    <a:pt x="20" y="86"/>
                    <a:pt x="37" y="86"/>
                  </a:cubicBezTo>
                  <a:cubicBezTo>
                    <a:pt x="55" y="86"/>
                    <a:pt x="76" y="78"/>
                    <a:pt x="80" y="57"/>
                  </a:cubicBezTo>
                  <a:cubicBezTo>
                    <a:pt x="86" y="26"/>
                    <a:pt x="35" y="38"/>
                    <a:pt x="38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0" y="0"/>
            <a:ext cx="8964360" cy="4059360"/>
            <a:chOff x="0" y="0"/>
            <a:chExt cx="8964360" cy="4059360"/>
          </a:xfrm>
        </p:grpSpPr>
        <p:grpSp>
          <p:nvGrpSpPr>
            <p:cNvPr id="113" name=""/>
            <p:cNvGrpSpPr/>
            <p:nvPr/>
          </p:nvGrpSpPr>
          <p:grpSpPr>
            <a:xfrm>
              <a:off x="294840" y="3886200"/>
              <a:ext cx="8659800" cy="173160"/>
              <a:chOff x="294840" y="3886200"/>
              <a:chExt cx="8659800" cy="173160"/>
            </a:xfrm>
          </p:grpSpPr>
          <p:sp>
            <p:nvSpPr>
              <p:cNvPr id="114" name=""/>
              <p:cNvSpPr/>
              <p:nvPr/>
            </p:nvSpPr>
            <p:spPr>
              <a:xfrm>
                <a:off x="294840" y="3886200"/>
                <a:ext cx="6541200" cy="173160"/>
              </a:xfrm>
              <a:custGeom>
                <a:avLst/>
                <a:gdLst/>
                <a:ahLst/>
                <a:rect l="l" t="t" r="r" b="b"/>
                <a:pathLst>
                  <a:path w="4945" h="111">
                    <a:moveTo>
                      <a:pt x="0" y="0"/>
                    </a:moveTo>
                    <a:lnTo>
                      <a:pt x="0" y="111"/>
                    </a:lnTo>
                    <a:lnTo>
                      <a:pt x="4267" y="111"/>
                    </a:lnTo>
                    <a:lnTo>
                      <a:pt x="4334" y="44"/>
                    </a:lnTo>
                    <a:lnTo>
                      <a:pt x="4401" y="111"/>
                    </a:lnTo>
                    <a:lnTo>
                      <a:pt x="4945" y="111"/>
                    </a:lnTo>
                    <a:lnTo>
                      <a:pt x="49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d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6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10600" y="3886200"/>
                <a:ext cx="7844040" cy="173160"/>
              </a:xfrm>
              <a:custGeom>
                <a:avLst/>
                <a:gdLst/>
                <a:ahLst/>
                <a:rect l="l" t="t" r="r" b="b"/>
                <a:pathLst>
                  <a:path w="4945" h="111">
                    <a:moveTo>
                      <a:pt x="0" y="0"/>
                    </a:moveTo>
                    <a:lnTo>
                      <a:pt x="0" y="111"/>
                    </a:lnTo>
                    <a:lnTo>
                      <a:pt x="4267" y="111"/>
                    </a:lnTo>
                    <a:lnTo>
                      <a:pt x="4334" y="44"/>
                    </a:lnTo>
                    <a:lnTo>
                      <a:pt x="4401" y="111"/>
                    </a:lnTo>
                    <a:lnTo>
                      <a:pt x="4945" y="111"/>
                    </a:lnTo>
                    <a:lnTo>
                      <a:pt x="49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d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6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0" y="0"/>
              <a:ext cx="1375920" cy="866880"/>
            </a:xfrm>
            <a:custGeom>
              <a:avLst/>
              <a:gdLst/>
              <a:ahLst/>
              <a:rect l="l" t="t" r="r" b="b"/>
              <a:pathLst>
                <a:path w="867" h="546">
                  <a:moveTo>
                    <a:pt x="0" y="0"/>
                  </a:moveTo>
                  <a:lnTo>
                    <a:pt x="867" y="0"/>
                  </a:lnTo>
                  <a:lnTo>
                    <a:pt x="0" y="5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4840" y="473040"/>
              <a:ext cx="8664840" cy="3411720"/>
            </a:xfrm>
            <a:prstGeom prst="rect">
              <a:avLst/>
            </a:prstGeom>
            <a:solidFill>
              <a:srgbClr val="cd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4840" y="3368520"/>
              <a:ext cx="8664840" cy="524160"/>
            </a:xfrm>
            <a:prstGeom prst="rect">
              <a:avLst/>
            </a:prstGeom>
            <a:solidFill>
              <a:srgbClr val="99a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94840" y="249120"/>
              <a:ext cx="7669080" cy="162000"/>
              <a:chOff x="294840" y="249120"/>
              <a:chExt cx="7669080" cy="162000"/>
            </a:xfrm>
          </p:grpSpPr>
          <p:sp>
            <p:nvSpPr>
              <p:cNvPr id="120" name=""/>
              <p:cNvSpPr/>
              <p:nvPr/>
            </p:nvSpPr>
            <p:spPr>
              <a:xfrm>
                <a:off x="378720" y="249120"/>
                <a:ext cx="7585200" cy="162000"/>
              </a:xfrm>
              <a:custGeom>
                <a:avLst/>
                <a:gdLst/>
                <a:ahLst/>
                <a:rect l="l" t="t" r="r" b="b"/>
                <a:pathLst>
                  <a:path w="4330" h="104">
                    <a:moveTo>
                      <a:pt x="0" y="0"/>
                    </a:moveTo>
                    <a:lnTo>
                      <a:pt x="0" y="104"/>
                    </a:lnTo>
                    <a:lnTo>
                      <a:pt x="4330" y="104"/>
                    </a:lnTo>
                    <a:lnTo>
                      <a:pt x="4330" y="48"/>
                    </a:lnTo>
                    <a:lnTo>
                      <a:pt x="42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6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6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94840" y="249120"/>
                <a:ext cx="7585560" cy="162000"/>
              </a:xfrm>
              <a:custGeom>
                <a:avLst/>
                <a:gdLst/>
                <a:ahLst/>
                <a:rect l="l" t="t" r="r" b="b"/>
                <a:pathLst>
                  <a:path w="4330" h="104">
                    <a:moveTo>
                      <a:pt x="0" y="0"/>
                    </a:moveTo>
                    <a:lnTo>
                      <a:pt x="0" y="104"/>
                    </a:lnTo>
                    <a:lnTo>
                      <a:pt x="4330" y="104"/>
                    </a:lnTo>
                    <a:lnTo>
                      <a:pt x="4330" y="48"/>
                    </a:lnTo>
                    <a:lnTo>
                      <a:pt x="42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6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6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8017200" y="252360"/>
              <a:ext cx="947160" cy="162000"/>
            </a:xfrm>
            <a:custGeom>
              <a:avLst/>
              <a:gdLst/>
              <a:ahLst/>
              <a:rect l="l" t="t" r="r" b="b"/>
              <a:pathLst>
                <a:path w="597" h="102">
                  <a:moveTo>
                    <a:pt x="0" y="102"/>
                  </a:moveTo>
                  <a:lnTo>
                    <a:pt x="597" y="102"/>
                  </a:lnTo>
                  <a:lnTo>
                    <a:pt x="597" y="0"/>
                  </a:lnTo>
                  <a:lnTo>
                    <a:pt x="45" y="0"/>
                  </a:lnTo>
                  <a:lnTo>
                    <a:pt x="0" y="45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d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520040" y="4519440"/>
            <a:ext cx="961920" cy="966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40" y="4629240"/>
            <a:ext cx="63453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4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5840" y="6492960"/>
            <a:ext cx="54385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reescale™ and the Freescale logo are trademarks of Freescale Semiconductor, Inc. All other product or service names are the property of their respective owners. © Freescale Semiconductor, Inc. 2006. The Power Architecture and Power.org word marks and the Power and Power.org logos and related marks are trademarks and service marks licensed by Power.org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5200" y="5634000"/>
            <a:ext cx="8655120" cy="1800"/>
          </a:xfrm>
          <a:prstGeom prst="line">
            <a:avLst/>
          </a:prstGeom>
          <a:ln w="9360">
            <a:solidFill>
              <a:srgbClr val="4e61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2"/>
          </p:nvPr>
        </p:nvSpPr>
        <p:spPr>
          <a:xfrm>
            <a:off x="5871960" y="6505560"/>
            <a:ext cx="67788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F2F24-82B5-4153-92B7-3A35EEA402D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HelveticaNeueLT Std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65440" indent="-15084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7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65440" indent="-15084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7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65440" indent="-150840">
              <a:lnSpc>
                <a:spcPct val="166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7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200" y="457200"/>
            <a:ext cx="909720" cy="1141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457200" y="1514160"/>
            <a:ext cx="822168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lnSpc>
                <a:spcPct val="16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1160" indent="-208440" algn="ctr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 algn="ctr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 algn="ctr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 algn="ctr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 algn="ctr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 algn="ctr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" y="4727520"/>
            <a:ext cx="8885520" cy="1143000"/>
          </a:xfrm>
          <a:prstGeom prst="rect">
            <a:avLst/>
          </a:prstGeom>
          <a:solidFill>
            <a:srgbClr val="d7ea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8900000">
            <a:off x="7857720" y="4447800"/>
            <a:ext cx="552600" cy="5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662960" y="4014720"/>
            <a:ext cx="961920" cy="96696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131760" y="6000840"/>
            <a:ext cx="8878320" cy="172800"/>
            <a:chOff x="131760" y="6000840"/>
            <a:chExt cx="8878320" cy="172800"/>
          </a:xfrm>
        </p:grpSpPr>
        <p:sp>
          <p:nvSpPr>
            <p:cNvPr id="171" name=""/>
            <p:cNvSpPr/>
            <p:nvPr/>
          </p:nvSpPr>
          <p:spPr>
            <a:xfrm flipH="1">
              <a:off x="1381680" y="6000840"/>
              <a:ext cx="7628040" cy="172800"/>
            </a:xfrm>
            <a:custGeom>
              <a:avLst/>
              <a:gdLst/>
              <a:ahLst/>
              <a:rect l="l" t="t" r="r" b="b"/>
              <a:pathLst>
                <a:path w="4945" h="111">
                  <a:moveTo>
                    <a:pt x="0" y="0"/>
                  </a:moveTo>
                  <a:lnTo>
                    <a:pt x="0" y="111"/>
                  </a:lnTo>
                  <a:lnTo>
                    <a:pt x="4267" y="111"/>
                  </a:lnTo>
                  <a:lnTo>
                    <a:pt x="4334" y="44"/>
                  </a:lnTo>
                  <a:lnTo>
                    <a:pt x="4401" y="111"/>
                  </a:lnTo>
                  <a:lnTo>
                    <a:pt x="4945" y="111"/>
                  </a:lnTo>
                  <a:lnTo>
                    <a:pt x="49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31760" y="6000840"/>
              <a:ext cx="7847280" cy="172800"/>
            </a:xfrm>
            <a:custGeom>
              <a:avLst/>
              <a:gdLst/>
              <a:ahLst/>
              <a:rect l="l" t="t" r="r" b="b"/>
              <a:pathLst>
                <a:path w="4945" h="111">
                  <a:moveTo>
                    <a:pt x="0" y="0"/>
                  </a:moveTo>
                  <a:lnTo>
                    <a:pt x="0" y="111"/>
                  </a:lnTo>
                  <a:lnTo>
                    <a:pt x="4267" y="111"/>
                  </a:lnTo>
                  <a:lnTo>
                    <a:pt x="4334" y="44"/>
                  </a:lnTo>
                  <a:lnTo>
                    <a:pt x="4401" y="111"/>
                  </a:lnTo>
                  <a:lnTo>
                    <a:pt x="4945" y="111"/>
                  </a:lnTo>
                  <a:lnTo>
                    <a:pt x="49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33200" y="5870520"/>
            <a:ext cx="8883720" cy="131760"/>
          </a:xfrm>
          <a:prstGeom prst="rect">
            <a:avLst/>
          </a:prstGeom>
          <a:solidFill>
            <a:srgbClr val="99a2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454880" y="6272280"/>
            <a:ext cx="1591920" cy="426600"/>
            <a:chOff x="7454880" y="6272280"/>
            <a:chExt cx="1591920" cy="426600"/>
          </a:xfrm>
        </p:grpSpPr>
        <p:sp>
          <p:nvSpPr>
            <p:cNvPr id="175" name=""/>
            <p:cNvSpPr/>
            <p:nvPr/>
          </p:nvSpPr>
          <p:spPr>
            <a:xfrm>
              <a:off x="8767800" y="6438240"/>
              <a:ext cx="2790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98640" y="6653520"/>
              <a:ext cx="44280" cy="45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19"/>
                  </a:moveTo>
                  <a:cubicBezTo>
                    <a:pt x="6" y="25"/>
                    <a:pt x="10" y="26"/>
                    <a:pt x="14" y="26"/>
                  </a:cubicBezTo>
                  <a:cubicBezTo>
                    <a:pt x="16" y="26"/>
                    <a:pt x="20" y="26"/>
                    <a:pt x="21" y="21"/>
                  </a:cubicBezTo>
                  <a:cubicBezTo>
                    <a:pt x="22" y="14"/>
                    <a:pt x="2" y="20"/>
                    <a:pt x="5" y="8"/>
                  </a:cubicBezTo>
                  <a:cubicBezTo>
                    <a:pt x="6" y="2"/>
                    <a:pt x="12" y="0"/>
                    <a:pt x="17" y="0"/>
                  </a:cubicBezTo>
                  <a:cubicBezTo>
                    <a:pt x="21" y="0"/>
                    <a:pt x="29" y="2"/>
                    <a:pt x="28" y="9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6"/>
                    <a:pt x="20" y="4"/>
                    <a:pt x="17" y="4"/>
                  </a:cubicBezTo>
                  <a:cubicBezTo>
                    <a:pt x="14" y="4"/>
                    <a:pt x="10" y="4"/>
                    <a:pt x="10" y="8"/>
                  </a:cubicBezTo>
                  <a:cubicBezTo>
                    <a:pt x="8" y="15"/>
                    <a:pt x="28" y="10"/>
                    <a:pt x="26" y="21"/>
                  </a:cubicBezTo>
                  <a:cubicBezTo>
                    <a:pt x="25" y="27"/>
                    <a:pt x="18" y="30"/>
                    <a:pt x="12" y="30"/>
                  </a:cubicBezTo>
                  <a:cubicBezTo>
                    <a:pt x="6" y="30"/>
                    <a:pt x="0" y="27"/>
                    <a:pt x="1" y="20"/>
                  </a:cubicBez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46520" y="6653520"/>
              <a:ext cx="453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7" y="16"/>
                  </a:moveTo>
                  <a:cubicBezTo>
                    <a:pt x="5" y="22"/>
                    <a:pt x="8" y="26"/>
                    <a:pt x="13" y="26"/>
                  </a:cubicBezTo>
                  <a:cubicBezTo>
                    <a:pt x="18" y="26"/>
                    <a:pt x="21" y="24"/>
                    <a:pt x="23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4" y="27"/>
                    <a:pt x="19" y="30"/>
                    <a:pt x="12" y="30"/>
                  </a:cubicBezTo>
                  <a:cubicBezTo>
                    <a:pt x="3" y="30"/>
                    <a:pt x="0" y="23"/>
                    <a:pt x="1" y="15"/>
                  </a:cubicBezTo>
                  <a:cubicBezTo>
                    <a:pt x="3" y="6"/>
                    <a:pt x="9" y="0"/>
                    <a:pt x="18" y="0"/>
                  </a:cubicBezTo>
                  <a:cubicBezTo>
                    <a:pt x="27" y="0"/>
                    <a:pt x="30" y="6"/>
                    <a:pt x="29" y="15"/>
                  </a:cubicBezTo>
                  <a:cubicBezTo>
                    <a:pt x="28" y="16"/>
                    <a:pt x="28" y="16"/>
                    <a:pt x="28" y="16"/>
                  </a:cubicBezTo>
                  <a:lnTo>
                    <a:pt x="7" y="16"/>
                  </a:lnTo>
                  <a:close/>
                  <a:moveTo>
                    <a:pt x="24" y="12"/>
                  </a:moveTo>
                  <a:cubicBezTo>
                    <a:pt x="24" y="8"/>
                    <a:pt x="22" y="4"/>
                    <a:pt x="17" y="4"/>
                  </a:cubicBezTo>
                  <a:cubicBezTo>
                    <a:pt x="12" y="4"/>
                    <a:pt x="8" y="8"/>
                    <a:pt x="7" y="12"/>
                  </a:cubicBezTo>
                  <a:lnTo>
                    <a:pt x="2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95120" y="6653520"/>
              <a:ext cx="69480" cy="4392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2" y="2"/>
                    <a:pt x="15" y="0"/>
                    <a:pt x="18" y="0"/>
                  </a:cubicBezTo>
                  <a:cubicBezTo>
                    <a:pt x="21" y="0"/>
                    <a:pt x="25" y="1"/>
                    <a:pt x="26" y="5"/>
                  </a:cubicBezTo>
                  <a:cubicBezTo>
                    <a:pt x="28" y="2"/>
                    <a:pt x="32" y="0"/>
                    <a:pt x="35" y="0"/>
                  </a:cubicBezTo>
                  <a:cubicBezTo>
                    <a:pt x="40" y="0"/>
                    <a:pt x="44" y="2"/>
                    <a:pt x="43" y="1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7"/>
                    <a:pt x="37" y="4"/>
                    <a:pt x="34" y="4"/>
                  </a:cubicBezTo>
                  <a:cubicBezTo>
                    <a:pt x="31" y="4"/>
                    <a:pt x="26" y="6"/>
                    <a:pt x="26" y="1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7"/>
                    <a:pt x="20" y="4"/>
                    <a:pt x="17" y="4"/>
                  </a:cubicBezTo>
                  <a:cubicBezTo>
                    <a:pt x="14" y="4"/>
                    <a:pt x="9" y="6"/>
                    <a:pt x="8" y="10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68200" y="6631200"/>
              <a:ext cx="20160" cy="66240"/>
            </a:xfrm>
            <a:custGeom>
              <a:avLst/>
              <a:gdLst/>
              <a:ahLst/>
              <a:rect l="l" t="t" r="r" b="b"/>
              <a:pathLst>
                <a:path w="26" h="86">
                  <a:moveTo>
                    <a:pt x="10" y="30"/>
                  </a:moveTo>
                  <a:lnTo>
                    <a:pt x="20" y="30"/>
                  </a:lnTo>
                  <a:lnTo>
                    <a:pt x="8" y="86"/>
                  </a:lnTo>
                  <a:lnTo>
                    <a:pt x="0" y="86"/>
                  </a:lnTo>
                  <a:lnTo>
                    <a:pt x="10" y="30"/>
                  </a:lnTo>
                  <a:close/>
                  <a:moveTo>
                    <a:pt x="16" y="0"/>
                  </a:moveTo>
                  <a:lnTo>
                    <a:pt x="26" y="0"/>
                  </a:lnTo>
                  <a:lnTo>
                    <a:pt x="24" y="12"/>
                  </a:lnTo>
                  <a:lnTo>
                    <a:pt x="14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5840" y="6653520"/>
              <a:ext cx="471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9" y="4"/>
                  </a:cubicBezTo>
                  <a:cubicBezTo>
                    <a:pt x="12" y="4"/>
                    <a:pt x="8" y="10"/>
                    <a:pt x="7" y="15"/>
                  </a:cubicBezTo>
                  <a:cubicBezTo>
                    <a:pt x="6" y="21"/>
                    <a:pt x="8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36600" y="6653520"/>
              <a:ext cx="48600" cy="453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8" y="0"/>
                  </a:moveTo>
                  <a:cubicBezTo>
                    <a:pt x="27" y="0"/>
                    <a:pt x="31" y="6"/>
                    <a:pt x="30" y="15"/>
                  </a:cubicBezTo>
                  <a:cubicBezTo>
                    <a:pt x="28" y="24"/>
                    <a:pt x="21" y="30"/>
                    <a:pt x="13" y="30"/>
                  </a:cubicBezTo>
                  <a:cubicBezTo>
                    <a:pt x="4" y="30"/>
                    <a:pt x="0" y="24"/>
                    <a:pt x="1" y="15"/>
                  </a:cubicBezTo>
                  <a:cubicBezTo>
                    <a:pt x="3" y="6"/>
                    <a:pt x="10" y="0"/>
                    <a:pt x="18" y="0"/>
                  </a:cubicBezTo>
                  <a:close/>
                  <a:moveTo>
                    <a:pt x="13" y="26"/>
                  </a:moveTo>
                  <a:cubicBezTo>
                    <a:pt x="20" y="26"/>
                    <a:pt x="23" y="20"/>
                    <a:pt x="24" y="15"/>
                  </a:cubicBezTo>
                  <a:cubicBezTo>
                    <a:pt x="25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6" y="26"/>
                    <a:pt x="13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87360" y="6653520"/>
              <a:ext cx="45720" cy="439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2" y="2"/>
                    <a:pt x="15" y="0"/>
                    <a:pt x="19" y="0"/>
                  </a:cubicBezTo>
                  <a:cubicBezTo>
                    <a:pt x="25" y="0"/>
                    <a:pt x="29" y="2"/>
                    <a:pt x="27" y="10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3" y="6"/>
                    <a:pt x="21" y="4"/>
                    <a:pt x="17" y="4"/>
                  </a:cubicBezTo>
                  <a:cubicBezTo>
                    <a:pt x="13" y="4"/>
                    <a:pt x="9" y="7"/>
                    <a:pt x="8" y="12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34880" y="6631200"/>
              <a:ext cx="53640" cy="676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26" y="43"/>
                  </a:moveTo>
                  <a:cubicBezTo>
                    <a:pt x="21" y="43"/>
                    <a:pt x="21" y="43"/>
                    <a:pt x="21" y="43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19" y="43"/>
                    <a:pt x="16" y="44"/>
                    <a:pt x="12" y="44"/>
                  </a:cubicBezTo>
                  <a:cubicBezTo>
                    <a:pt x="2" y="44"/>
                    <a:pt x="0" y="37"/>
                    <a:pt x="1" y="29"/>
                  </a:cubicBezTo>
                  <a:cubicBezTo>
                    <a:pt x="3" y="21"/>
                    <a:pt x="8" y="14"/>
                    <a:pt x="18" y="14"/>
                  </a:cubicBezTo>
                  <a:cubicBezTo>
                    <a:pt x="22" y="14"/>
                    <a:pt x="25" y="15"/>
                    <a:pt x="26" y="1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26" y="43"/>
                  </a:lnTo>
                  <a:close/>
                  <a:moveTo>
                    <a:pt x="13" y="40"/>
                  </a:moveTo>
                  <a:cubicBezTo>
                    <a:pt x="20" y="40"/>
                    <a:pt x="23" y="35"/>
                    <a:pt x="24" y="29"/>
                  </a:cubicBezTo>
                  <a:cubicBezTo>
                    <a:pt x="25" y="23"/>
                    <a:pt x="23" y="18"/>
                    <a:pt x="17" y="18"/>
                  </a:cubicBezTo>
                  <a:cubicBezTo>
                    <a:pt x="11" y="18"/>
                    <a:pt x="7" y="23"/>
                    <a:pt x="6" y="29"/>
                  </a:cubicBezTo>
                  <a:cubicBezTo>
                    <a:pt x="5" y="35"/>
                    <a:pt x="7" y="40"/>
                    <a:pt x="13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88880" y="6653520"/>
              <a:ext cx="43920" cy="453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3" y="28"/>
                  </a:moveTo>
                  <a:cubicBezTo>
                    <a:pt x="18" y="28"/>
                    <a:pt x="18" y="28"/>
                    <a:pt x="18" y="28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7" y="27"/>
                    <a:pt x="13" y="29"/>
                    <a:pt x="10" y="29"/>
                  </a:cubicBezTo>
                  <a:cubicBezTo>
                    <a:pt x="4" y="29"/>
                    <a:pt x="0" y="27"/>
                    <a:pt x="1" y="19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23"/>
                    <a:pt x="8" y="25"/>
                    <a:pt x="11" y="25"/>
                  </a:cubicBezTo>
                  <a:cubicBezTo>
                    <a:pt x="16" y="25"/>
                    <a:pt x="20" y="22"/>
                    <a:pt x="21" y="1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34960" y="6653520"/>
              <a:ext cx="47160" cy="453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1"/>
                    <a:pt x="7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85360" y="6640560"/>
              <a:ext cx="28080" cy="5832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" y="9"/>
                  </a:moveTo>
                  <a:cubicBezTo>
                    <a:pt x="6" y="9"/>
                    <a:pt x="6" y="9"/>
                    <a:pt x="6" y="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3"/>
                    <a:pt x="6" y="34"/>
                    <a:pt x="8" y="34"/>
                  </a:cubicBezTo>
                  <a:cubicBezTo>
                    <a:pt x="9" y="34"/>
                    <a:pt x="10" y="34"/>
                    <a:pt x="11" y="33"/>
                  </a:cubicBezTo>
                  <a:cubicBezTo>
                    <a:pt x="11" y="38"/>
                    <a:pt x="11" y="38"/>
                    <a:pt x="11" y="38"/>
                  </a:cubicBezTo>
                  <a:cubicBezTo>
                    <a:pt x="9" y="38"/>
                    <a:pt x="7" y="38"/>
                    <a:pt x="6" y="38"/>
                  </a:cubicBezTo>
                  <a:cubicBezTo>
                    <a:pt x="0" y="38"/>
                    <a:pt x="1" y="36"/>
                    <a:pt x="2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1" y="13"/>
                    <a:pt x="1" y="13"/>
                    <a:pt x="1" y="13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709120" y="6653520"/>
              <a:ext cx="48960" cy="453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9" y="0"/>
                  </a:moveTo>
                  <a:cubicBezTo>
                    <a:pt x="28" y="0"/>
                    <a:pt x="32" y="6"/>
                    <a:pt x="30" y="15"/>
                  </a:cubicBezTo>
                  <a:cubicBezTo>
                    <a:pt x="29" y="24"/>
                    <a:pt x="22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lose/>
                  <a:moveTo>
                    <a:pt x="14" y="26"/>
                  </a:moveTo>
                  <a:cubicBezTo>
                    <a:pt x="21" y="26"/>
                    <a:pt x="24" y="20"/>
                    <a:pt x="25" y="15"/>
                  </a:cubicBezTo>
                  <a:cubicBezTo>
                    <a:pt x="26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7" y="26"/>
                    <a:pt x="14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761680" y="6653520"/>
              <a:ext cx="31320" cy="439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6" y="1"/>
                  </a:moveTo>
                  <a:cubicBezTo>
                    <a:pt x="11" y="1"/>
                    <a:pt x="11" y="1"/>
                    <a:pt x="11" y="1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3" y="2"/>
                    <a:pt x="16" y="0"/>
                    <a:pt x="21" y="0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9" y="6"/>
                    <a:pt x="18" y="6"/>
                    <a:pt x="17" y="6"/>
                  </a:cubicBezTo>
                  <a:cubicBezTo>
                    <a:pt x="12" y="6"/>
                    <a:pt x="9" y="10"/>
                    <a:pt x="8" y="13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360" y="6272280"/>
              <a:ext cx="114120" cy="6156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16520" y="6305040"/>
              <a:ext cx="112320" cy="6336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54" y="84"/>
                  </a:moveTo>
                  <a:lnTo>
                    <a:pt x="144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4" y="84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79880" y="6338520"/>
              <a:ext cx="114120" cy="6480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83040" y="6396840"/>
              <a:ext cx="114120" cy="6480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48200" y="6431760"/>
              <a:ext cx="112320" cy="6156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88000" y="6452640"/>
              <a:ext cx="112320" cy="644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6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51360" y="6485760"/>
              <a:ext cx="114120" cy="6480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54880" y="6545880"/>
              <a:ext cx="114120" cy="644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94360" y="6438240"/>
              <a:ext cx="91800" cy="17208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12" y="45"/>
                  </a:moveTo>
                  <a:cubicBezTo>
                    <a:pt x="0" y="45"/>
                    <a:pt x="0" y="45"/>
                    <a:pt x="0" y="45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13"/>
                    <a:pt x="24" y="0"/>
                    <a:pt x="44" y="0"/>
                  </a:cubicBezTo>
                  <a:cubicBezTo>
                    <a:pt x="49" y="0"/>
                    <a:pt x="57" y="0"/>
                    <a:pt x="59" y="1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49" y="19"/>
                    <a:pt x="49" y="19"/>
                    <a:pt x="49" y="19"/>
                  </a:cubicBezTo>
                  <a:cubicBezTo>
                    <a:pt x="45" y="19"/>
                    <a:pt x="41" y="20"/>
                    <a:pt x="40" y="25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3" y="110"/>
                    <a:pt x="23" y="110"/>
                    <a:pt x="23" y="110"/>
                  </a:cubicBezTo>
                  <a:cubicBezTo>
                    <a:pt x="0" y="110"/>
                    <a:pt x="0" y="110"/>
                    <a:pt x="0" y="110"/>
                  </a:cubicBezTo>
                  <a:lnTo>
                    <a:pt x="1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68520" y="6481080"/>
              <a:ext cx="96480" cy="12924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16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44" y="4"/>
                    <a:pt x="53" y="1"/>
                    <a:pt x="62" y="0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41" y="23"/>
                    <a:pt x="35" y="26"/>
                    <a:pt x="33" y="35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0" y="82"/>
                    <a:pt x="0" y="82"/>
                    <a:pt x="0" y="82"/>
                  </a:cubicBez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85560" y="6479280"/>
              <a:ext cx="134640" cy="132840"/>
            </a:xfrm>
            <a:custGeom>
              <a:avLst/>
              <a:gdLst/>
              <a:ahLst/>
              <a:rect l="l" t="t" r="r" b="b"/>
              <a:pathLst>
                <a:path w="87" h="86">
                  <a:moveTo>
                    <a:pt x="76" y="67"/>
                  </a:moveTo>
                  <a:cubicBezTo>
                    <a:pt x="75" y="72"/>
                    <a:pt x="74" y="79"/>
                    <a:pt x="75" y="84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2" y="81"/>
                    <a:pt x="52" y="78"/>
                    <a:pt x="53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47" y="82"/>
                    <a:pt x="34" y="86"/>
                    <a:pt x="26" y="86"/>
                  </a:cubicBezTo>
                  <a:cubicBezTo>
                    <a:pt x="10" y="86"/>
                    <a:pt x="0" y="77"/>
                    <a:pt x="3" y="62"/>
                  </a:cubicBezTo>
                  <a:cubicBezTo>
                    <a:pt x="7" y="42"/>
                    <a:pt x="24" y="35"/>
                    <a:pt x="51" y="32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24"/>
                    <a:pt x="61" y="24"/>
                    <a:pt x="61" y="24"/>
                  </a:cubicBezTo>
                  <a:cubicBezTo>
                    <a:pt x="62" y="17"/>
                    <a:pt x="58" y="15"/>
                    <a:pt x="51" y="15"/>
                  </a:cubicBezTo>
                  <a:cubicBezTo>
                    <a:pt x="44" y="15"/>
                    <a:pt x="40" y="18"/>
                    <a:pt x="3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9" y="2"/>
                    <a:pt x="41" y="0"/>
                    <a:pt x="52" y="0"/>
                  </a:cubicBezTo>
                  <a:cubicBezTo>
                    <a:pt x="75" y="0"/>
                    <a:pt x="87" y="5"/>
                    <a:pt x="84" y="24"/>
                  </a:cubicBezTo>
                  <a:lnTo>
                    <a:pt x="76" y="67"/>
                  </a:lnTo>
                  <a:close/>
                  <a:moveTo>
                    <a:pt x="57" y="44"/>
                  </a:moveTo>
                  <a:cubicBezTo>
                    <a:pt x="40" y="49"/>
                    <a:pt x="40" y="49"/>
                    <a:pt x="40" y="49"/>
                  </a:cubicBezTo>
                  <a:cubicBezTo>
                    <a:pt x="34" y="50"/>
                    <a:pt x="28" y="53"/>
                    <a:pt x="27" y="59"/>
                  </a:cubicBezTo>
                  <a:cubicBezTo>
                    <a:pt x="25" y="66"/>
                    <a:pt x="30" y="68"/>
                    <a:pt x="36" y="68"/>
                  </a:cubicBezTo>
                  <a:cubicBezTo>
                    <a:pt x="45" y="68"/>
                    <a:pt x="54" y="62"/>
                    <a:pt x="56" y="50"/>
                  </a:cubicBezTo>
                  <a:lnTo>
                    <a:pt x="5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23800" y="6441480"/>
              <a:ext cx="69480" cy="170640"/>
            </a:xfrm>
            <a:custGeom>
              <a:avLst/>
              <a:gdLst/>
              <a:ahLst/>
              <a:rect l="l" t="t" r="r" b="b"/>
              <a:pathLst>
                <a:path w="90" h="218">
                  <a:moveTo>
                    <a:pt x="0" y="218"/>
                  </a:moveTo>
                  <a:lnTo>
                    <a:pt x="42" y="0"/>
                  </a:lnTo>
                  <a:lnTo>
                    <a:pt x="90" y="0"/>
                  </a:lnTo>
                  <a:lnTo>
                    <a:pt x="48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56000" y="6479280"/>
              <a:ext cx="137520" cy="13284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7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92440" y="6479280"/>
              <a:ext cx="139320" cy="13284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9" y="0"/>
                    <a:pt x="10" y="17"/>
                    <a:pt x="5" y="45"/>
                  </a:cubicBezTo>
                  <a:cubicBezTo>
                    <a:pt x="0" y="68"/>
                    <a:pt x="12" y="86"/>
                    <a:pt x="37" y="86"/>
                  </a:cubicBezTo>
                  <a:cubicBezTo>
                    <a:pt x="55" y="86"/>
                    <a:pt x="69" y="79"/>
                    <a:pt x="81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7" y="18"/>
                    <a:pt x="65" y="21"/>
                    <a:pt x="63" y="3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683920" y="6479280"/>
              <a:ext cx="137520" cy="13284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41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8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6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3" y="55"/>
                    <a:pt x="63" y="55"/>
                    <a:pt x="63" y="55"/>
                  </a:cubicBezTo>
                  <a:cubicBezTo>
                    <a:pt x="55" y="64"/>
                    <a:pt x="50" y="68"/>
                    <a:pt x="41" y="68"/>
                  </a:cubicBezTo>
                  <a:close/>
                  <a:moveTo>
                    <a:pt x="49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3" y="22"/>
                    <a:pt x="42" y="18"/>
                    <a:pt x="49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55600" y="6479280"/>
              <a:ext cx="132840" cy="1328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63" y="56"/>
                  </a:moveTo>
                  <a:cubicBezTo>
                    <a:pt x="57" y="65"/>
                    <a:pt x="51" y="67"/>
                    <a:pt x="44" y="67"/>
                  </a:cubicBezTo>
                  <a:cubicBezTo>
                    <a:pt x="31" y="67"/>
                    <a:pt x="27" y="57"/>
                    <a:pt x="30" y="43"/>
                  </a:cubicBezTo>
                  <a:cubicBezTo>
                    <a:pt x="33" y="29"/>
                    <a:pt x="40" y="19"/>
                    <a:pt x="53" y="19"/>
                  </a:cubicBezTo>
                  <a:cubicBezTo>
                    <a:pt x="57" y="19"/>
                    <a:pt x="65" y="21"/>
                    <a:pt x="67" y="31"/>
                  </a:cubicBezTo>
                  <a:cubicBezTo>
                    <a:pt x="86" y="19"/>
                    <a:pt x="86" y="19"/>
                    <a:pt x="86" y="19"/>
                  </a:cubicBezTo>
                  <a:cubicBezTo>
                    <a:pt x="81" y="6"/>
                    <a:pt x="69" y="0"/>
                    <a:pt x="54" y="0"/>
                  </a:cubicBezTo>
                  <a:cubicBezTo>
                    <a:pt x="31" y="0"/>
                    <a:pt x="10" y="16"/>
                    <a:pt x="5" y="43"/>
                  </a:cubicBezTo>
                  <a:cubicBezTo>
                    <a:pt x="0" y="70"/>
                    <a:pt x="14" y="86"/>
                    <a:pt x="38" y="86"/>
                  </a:cubicBezTo>
                  <a:cubicBezTo>
                    <a:pt x="54" y="86"/>
                    <a:pt x="69" y="77"/>
                    <a:pt x="79" y="64"/>
                  </a:cubicBezTo>
                  <a:lnTo>
                    <a:pt x="6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20960" y="6479280"/>
              <a:ext cx="142560" cy="13284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38" y="24"/>
                  </a:moveTo>
                  <a:cubicBezTo>
                    <a:pt x="39" y="20"/>
                    <a:pt x="43" y="18"/>
                    <a:pt x="49" y="18"/>
                  </a:cubicBezTo>
                  <a:cubicBezTo>
                    <a:pt x="57" y="18"/>
                    <a:pt x="66" y="21"/>
                    <a:pt x="70" y="26"/>
                  </a:cubicBezTo>
                  <a:cubicBezTo>
                    <a:pt x="90" y="14"/>
                    <a:pt x="90" y="14"/>
                    <a:pt x="90" y="14"/>
                  </a:cubicBezTo>
                  <a:cubicBezTo>
                    <a:pt x="79" y="4"/>
                    <a:pt x="66" y="0"/>
                    <a:pt x="54" y="0"/>
                  </a:cubicBezTo>
                  <a:cubicBezTo>
                    <a:pt x="37" y="0"/>
                    <a:pt x="18" y="8"/>
                    <a:pt x="14" y="29"/>
                  </a:cubicBezTo>
                  <a:cubicBezTo>
                    <a:pt x="8" y="58"/>
                    <a:pt x="59" y="47"/>
                    <a:pt x="56" y="60"/>
                  </a:cubicBezTo>
                  <a:cubicBezTo>
                    <a:pt x="55" y="67"/>
                    <a:pt x="45" y="68"/>
                    <a:pt x="41" y="68"/>
                  </a:cubicBezTo>
                  <a:cubicBezTo>
                    <a:pt x="31" y="68"/>
                    <a:pt x="24" y="64"/>
                    <a:pt x="18" y="5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9" y="81"/>
                    <a:pt x="20" y="86"/>
                    <a:pt x="37" y="86"/>
                  </a:cubicBezTo>
                  <a:cubicBezTo>
                    <a:pt x="55" y="86"/>
                    <a:pt x="76" y="78"/>
                    <a:pt x="80" y="57"/>
                  </a:cubicBezTo>
                  <a:cubicBezTo>
                    <a:pt x="86" y="26"/>
                    <a:pt x="35" y="38"/>
                    <a:pt x="38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 flipH="1">
            <a:off x="130320" y="122400"/>
            <a:ext cx="947520" cy="161640"/>
          </a:xfrm>
          <a:custGeom>
            <a:avLst/>
            <a:gdLst/>
            <a:ahLst/>
            <a:rect l="l" t="t" r="r" b="b"/>
            <a:pathLst>
              <a:path w="597" h="102">
                <a:moveTo>
                  <a:pt x="0" y="102"/>
                </a:moveTo>
                <a:lnTo>
                  <a:pt x="597" y="102"/>
                </a:lnTo>
                <a:lnTo>
                  <a:pt x="597" y="0"/>
                </a:lnTo>
                <a:lnTo>
                  <a:pt x="45" y="0"/>
                </a:lnTo>
                <a:lnTo>
                  <a:pt x="0" y="45"/>
                </a:lnTo>
                <a:lnTo>
                  <a:pt x="0" y="102"/>
                </a:lnTo>
                <a:close/>
              </a:path>
            </a:pathLst>
          </a:custGeom>
          <a:solidFill>
            <a:srgbClr val="cdd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114560" y="119160"/>
            <a:ext cx="7906320" cy="162000"/>
            <a:chOff x="1114560" y="119160"/>
            <a:chExt cx="7906320" cy="162000"/>
          </a:xfrm>
        </p:grpSpPr>
        <p:sp>
          <p:nvSpPr>
            <p:cNvPr id="208" name=""/>
            <p:cNvSpPr/>
            <p:nvPr/>
          </p:nvSpPr>
          <p:spPr>
            <a:xfrm flipH="1">
              <a:off x="2149920" y="119160"/>
              <a:ext cx="6870600" cy="162000"/>
            </a:xfrm>
            <a:custGeom>
              <a:avLst/>
              <a:gdLst/>
              <a:ahLst/>
              <a:rect l="l" t="t" r="r" b="b"/>
              <a:pathLst>
                <a:path w="4330" h="104">
                  <a:moveTo>
                    <a:pt x="0" y="0"/>
                  </a:moveTo>
                  <a:lnTo>
                    <a:pt x="0" y="104"/>
                  </a:lnTo>
                  <a:lnTo>
                    <a:pt x="4330" y="104"/>
                  </a:lnTo>
                  <a:lnTo>
                    <a:pt x="4330" y="48"/>
                  </a:lnTo>
                  <a:lnTo>
                    <a:pt x="4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114560" y="119160"/>
              <a:ext cx="6870240" cy="162000"/>
            </a:xfrm>
            <a:custGeom>
              <a:avLst/>
              <a:gdLst/>
              <a:ahLst/>
              <a:rect l="l" t="t" r="r" b="b"/>
              <a:pathLst>
                <a:path w="4330" h="104">
                  <a:moveTo>
                    <a:pt x="0" y="0"/>
                  </a:moveTo>
                  <a:lnTo>
                    <a:pt x="0" y="104"/>
                  </a:lnTo>
                  <a:lnTo>
                    <a:pt x="4330" y="104"/>
                  </a:lnTo>
                  <a:lnTo>
                    <a:pt x="4330" y="48"/>
                  </a:lnTo>
                  <a:lnTo>
                    <a:pt x="4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85840" y="6492960"/>
            <a:ext cx="54385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reescale™ and the Freescale logo are trademarks of Freescale Semiconductor, Inc. All other product or service names are the property of their respective owners. © Freescale Semiconductor, Inc. 2006. The Power Architecture and Power.org word marks and the Power and Power.org logos and related marks are trademarks and service marks licensed by Power.org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ldNum" idx="3"/>
          </p:nvPr>
        </p:nvSpPr>
        <p:spPr>
          <a:xfrm>
            <a:off x="5871960" y="6505560"/>
            <a:ext cx="67788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11C93-E093-4E56-82DD-70AF4802C45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131760" y="6524640"/>
            <a:ext cx="8878320" cy="173160"/>
            <a:chOff x="131760" y="6524640"/>
            <a:chExt cx="8878320" cy="173160"/>
          </a:xfrm>
        </p:grpSpPr>
        <p:sp>
          <p:nvSpPr>
            <p:cNvPr id="250" name=""/>
            <p:cNvSpPr/>
            <p:nvPr/>
          </p:nvSpPr>
          <p:spPr>
            <a:xfrm flipH="1">
              <a:off x="1381680" y="6524640"/>
              <a:ext cx="7628040" cy="173160"/>
            </a:xfrm>
            <a:custGeom>
              <a:avLst/>
              <a:gdLst/>
              <a:ahLst/>
              <a:rect l="l" t="t" r="r" b="b"/>
              <a:pathLst>
                <a:path w="4945" h="111">
                  <a:moveTo>
                    <a:pt x="0" y="0"/>
                  </a:moveTo>
                  <a:lnTo>
                    <a:pt x="0" y="111"/>
                  </a:lnTo>
                  <a:lnTo>
                    <a:pt x="4267" y="111"/>
                  </a:lnTo>
                  <a:lnTo>
                    <a:pt x="4334" y="44"/>
                  </a:lnTo>
                  <a:lnTo>
                    <a:pt x="4401" y="111"/>
                  </a:lnTo>
                  <a:lnTo>
                    <a:pt x="4945" y="111"/>
                  </a:lnTo>
                  <a:lnTo>
                    <a:pt x="49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31760" y="6524640"/>
              <a:ext cx="7847280" cy="173160"/>
            </a:xfrm>
            <a:custGeom>
              <a:avLst/>
              <a:gdLst/>
              <a:ahLst/>
              <a:rect l="l" t="t" r="r" b="b"/>
              <a:pathLst>
                <a:path w="4945" h="111">
                  <a:moveTo>
                    <a:pt x="0" y="0"/>
                  </a:moveTo>
                  <a:lnTo>
                    <a:pt x="0" y="111"/>
                  </a:lnTo>
                  <a:lnTo>
                    <a:pt x="4267" y="111"/>
                  </a:lnTo>
                  <a:lnTo>
                    <a:pt x="4334" y="44"/>
                  </a:lnTo>
                  <a:lnTo>
                    <a:pt x="4401" y="111"/>
                  </a:lnTo>
                  <a:lnTo>
                    <a:pt x="4945" y="111"/>
                  </a:lnTo>
                  <a:lnTo>
                    <a:pt x="49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d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33200" y="6394320"/>
            <a:ext cx="8883720" cy="131760"/>
          </a:xfrm>
          <a:prstGeom prst="rect">
            <a:avLst/>
          </a:prstGeom>
          <a:solidFill>
            <a:srgbClr val="99a2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30320" y="122400"/>
            <a:ext cx="947520" cy="161640"/>
          </a:xfrm>
          <a:custGeom>
            <a:avLst/>
            <a:gdLst/>
            <a:ahLst/>
            <a:rect l="l" t="t" r="r" b="b"/>
            <a:pathLst>
              <a:path w="597" h="102">
                <a:moveTo>
                  <a:pt x="0" y="102"/>
                </a:moveTo>
                <a:lnTo>
                  <a:pt x="597" y="102"/>
                </a:lnTo>
                <a:lnTo>
                  <a:pt x="597" y="0"/>
                </a:lnTo>
                <a:lnTo>
                  <a:pt x="45" y="0"/>
                </a:lnTo>
                <a:lnTo>
                  <a:pt x="0" y="45"/>
                </a:lnTo>
                <a:lnTo>
                  <a:pt x="0" y="102"/>
                </a:lnTo>
                <a:close/>
              </a:path>
            </a:pathLst>
          </a:custGeom>
          <a:solidFill>
            <a:srgbClr val="cdd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114560" y="119160"/>
            <a:ext cx="7906320" cy="162000"/>
            <a:chOff x="1114560" y="119160"/>
            <a:chExt cx="7906320" cy="162000"/>
          </a:xfrm>
        </p:grpSpPr>
        <p:sp>
          <p:nvSpPr>
            <p:cNvPr id="255" name=""/>
            <p:cNvSpPr/>
            <p:nvPr/>
          </p:nvSpPr>
          <p:spPr>
            <a:xfrm flipH="1">
              <a:off x="2149920" y="119160"/>
              <a:ext cx="6870600" cy="162000"/>
            </a:xfrm>
            <a:custGeom>
              <a:avLst/>
              <a:gdLst/>
              <a:ahLst/>
              <a:rect l="l" t="t" r="r" b="b"/>
              <a:pathLst>
                <a:path w="4330" h="104">
                  <a:moveTo>
                    <a:pt x="0" y="0"/>
                  </a:moveTo>
                  <a:lnTo>
                    <a:pt x="0" y="104"/>
                  </a:lnTo>
                  <a:lnTo>
                    <a:pt x="4330" y="104"/>
                  </a:lnTo>
                  <a:lnTo>
                    <a:pt x="4330" y="48"/>
                  </a:lnTo>
                  <a:lnTo>
                    <a:pt x="4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1114560" y="119160"/>
              <a:ext cx="6870240" cy="162000"/>
            </a:xfrm>
            <a:custGeom>
              <a:avLst/>
              <a:gdLst/>
              <a:ahLst/>
              <a:rect l="l" t="t" r="r" b="b"/>
              <a:pathLst>
                <a:path w="4330" h="104">
                  <a:moveTo>
                    <a:pt x="0" y="0"/>
                  </a:moveTo>
                  <a:lnTo>
                    <a:pt x="0" y="104"/>
                  </a:lnTo>
                  <a:lnTo>
                    <a:pt x="4330" y="104"/>
                  </a:lnTo>
                  <a:lnTo>
                    <a:pt x="4330" y="48"/>
                  </a:lnTo>
                  <a:lnTo>
                    <a:pt x="42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6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841400" y="2289240"/>
            <a:ext cx="5451120" cy="1428480"/>
            <a:chOff x="1841400" y="2289240"/>
            <a:chExt cx="5451120" cy="1428480"/>
          </a:xfrm>
        </p:grpSpPr>
        <p:sp>
          <p:nvSpPr>
            <p:cNvPr id="258" name=""/>
            <p:cNvSpPr/>
            <p:nvPr/>
          </p:nvSpPr>
          <p:spPr>
            <a:xfrm>
              <a:off x="6359400" y="2847240"/>
              <a:ext cx="9331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32960" y="3562560"/>
              <a:ext cx="150120" cy="1551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19"/>
                  </a:moveTo>
                  <a:cubicBezTo>
                    <a:pt x="6" y="25"/>
                    <a:pt x="10" y="26"/>
                    <a:pt x="14" y="26"/>
                  </a:cubicBezTo>
                  <a:cubicBezTo>
                    <a:pt x="16" y="26"/>
                    <a:pt x="20" y="26"/>
                    <a:pt x="21" y="21"/>
                  </a:cubicBezTo>
                  <a:cubicBezTo>
                    <a:pt x="22" y="14"/>
                    <a:pt x="2" y="20"/>
                    <a:pt x="5" y="8"/>
                  </a:cubicBezTo>
                  <a:cubicBezTo>
                    <a:pt x="6" y="2"/>
                    <a:pt x="12" y="0"/>
                    <a:pt x="17" y="0"/>
                  </a:cubicBezTo>
                  <a:cubicBezTo>
                    <a:pt x="21" y="0"/>
                    <a:pt x="29" y="2"/>
                    <a:pt x="28" y="9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6"/>
                    <a:pt x="20" y="4"/>
                    <a:pt x="17" y="4"/>
                  </a:cubicBezTo>
                  <a:cubicBezTo>
                    <a:pt x="14" y="4"/>
                    <a:pt x="10" y="4"/>
                    <a:pt x="10" y="8"/>
                  </a:cubicBezTo>
                  <a:cubicBezTo>
                    <a:pt x="8" y="15"/>
                    <a:pt x="28" y="10"/>
                    <a:pt x="26" y="21"/>
                  </a:cubicBezTo>
                  <a:cubicBezTo>
                    <a:pt x="25" y="27"/>
                    <a:pt x="18" y="30"/>
                    <a:pt x="12" y="30"/>
                  </a:cubicBezTo>
                  <a:cubicBezTo>
                    <a:pt x="6" y="30"/>
                    <a:pt x="0" y="27"/>
                    <a:pt x="1" y="20"/>
                  </a:cubicBez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3160" y="3562560"/>
              <a:ext cx="151920" cy="155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7" y="16"/>
                  </a:moveTo>
                  <a:cubicBezTo>
                    <a:pt x="5" y="22"/>
                    <a:pt x="8" y="26"/>
                    <a:pt x="13" y="26"/>
                  </a:cubicBezTo>
                  <a:cubicBezTo>
                    <a:pt x="18" y="26"/>
                    <a:pt x="21" y="24"/>
                    <a:pt x="23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4" y="27"/>
                    <a:pt x="19" y="30"/>
                    <a:pt x="12" y="30"/>
                  </a:cubicBezTo>
                  <a:cubicBezTo>
                    <a:pt x="3" y="30"/>
                    <a:pt x="0" y="23"/>
                    <a:pt x="1" y="15"/>
                  </a:cubicBezTo>
                  <a:cubicBezTo>
                    <a:pt x="3" y="6"/>
                    <a:pt x="9" y="0"/>
                    <a:pt x="18" y="0"/>
                  </a:cubicBezTo>
                  <a:cubicBezTo>
                    <a:pt x="27" y="0"/>
                    <a:pt x="30" y="6"/>
                    <a:pt x="29" y="15"/>
                  </a:cubicBezTo>
                  <a:cubicBezTo>
                    <a:pt x="28" y="16"/>
                    <a:pt x="28" y="16"/>
                    <a:pt x="28" y="16"/>
                  </a:cubicBezTo>
                  <a:lnTo>
                    <a:pt x="7" y="16"/>
                  </a:lnTo>
                  <a:close/>
                  <a:moveTo>
                    <a:pt x="24" y="12"/>
                  </a:moveTo>
                  <a:cubicBezTo>
                    <a:pt x="24" y="8"/>
                    <a:pt x="22" y="4"/>
                    <a:pt x="17" y="4"/>
                  </a:cubicBezTo>
                  <a:cubicBezTo>
                    <a:pt x="12" y="4"/>
                    <a:pt x="8" y="8"/>
                    <a:pt x="7" y="12"/>
                  </a:cubicBezTo>
                  <a:lnTo>
                    <a:pt x="2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56600" y="3562560"/>
              <a:ext cx="230040" cy="1504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2" y="2"/>
                    <a:pt x="15" y="0"/>
                    <a:pt x="18" y="0"/>
                  </a:cubicBezTo>
                  <a:cubicBezTo>
                    <a:pt x="21" y="0"/>
                    <a:pt x="25" y="1"/>
                    <a:pt x="26" y="5"/>
                  </a:cubicBezTo>
                  <a:cubicBezTo>
                    <a:pt x="28" y="2"/>
                    <a:pt x="32" y="0"/>
                    <a:pt x="35" y="0"/>
                  </a:cubicBezTo>
                  <a:cubicBezTo>
                    <a:pt x="40" y="0"/>
                    <a:pt x="44" y="2"/>
                    <a:pt x="43" y="1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7"/>
                    <a:pt x="37" y="4"/>
                    <a:pt x="34" y="4"/>
                  </a:cubicBezTo>
                  <a:cubicBezTo>
                    <a:pt x="31" y="4"/>
                    <a:pt x="26" y="6"/>
                    <a:pt x="26" y="1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7"/>
                    <a:pt x="20" y="4"/>
                    <a:pt x="17" y="4"/>
                  </a:cubicBezTo>
                  <a:cubicBezTo>
                    <a:pt x="14" y="4"/>
                    <a:pt x="9" y="6"/>
                    <a:pt x="8" y="10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99600" y="3492720"/>
              <a:ext cx="69480" cy="220320"/>
            </a:xfrm>
            <a:custGeom>
              <a:avLst/>
              <a:gdLst/>
              <a:ahLst/>
              <a:rect l="l" t="t" r="r" b="b"/>
              <a:pathLst>
                <a:path w="26" h="86">
                  <a:moveTo>
                    <a:pt x="10" y="30"/>
                  </a:moveTo>
                  <a:lnTo>
                    <a:pt x="20" y="30"/>
                  </a:lnTo>
                  <a:lnTo>
                    <a:pt x="8" y="86"/>
                  </a:lnTo>
                  <a:lnTo>
                    <a:pt x="0" y="86"/>
                  </a:lnTo>
                  <a:lnTo>
                    <a:pt x="10" y="30"/>
                  </a:lnTo>
                  <a:close/>
                  <a:moveTo>
                    <a:pt x="16" y="0"/>
                  </a:moveTo>
                  <a:lnTo>
                    <a:pt x="26" y="0"/>
                  </a:lnTo>
                  <a:lnTo>
                    <a:pt x="24" y="12"/>
                  </a:lnTo>
                  <a:lnTo>
                    <a:pt x="14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55040" y="3562560"/>
              <a:ext cx="161640" cy="155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9" y="4"/>
                  </a:cubicBezTo>
                  <a:cubicBezTo>
                    <a:pt x="12" y="4"/>
                    <a:pt x="8" y="10"/>
                    <a:pt x="7" y="15"/>
                  </a:cubicBezTo>
                  <a:cubicBezTo>
                    <a:pt x="6" y="21"/>
                    <a:pt x="8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29280" y="3562560"/>
              <a:ext cx="160200" cy="1551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8" y="0"/>
                  </a:moveTo>
                  <a:cubicBezTo>
                    <a:pt x="27" y="0"/>
                    <a:pt x="31" y="6"/>
                    <a:pt x="30" y="15"/>
                  </a:cubicBezTo>
                  <a:cubicBezTo>
                    <a:pt x="28" y="24"/>
                    <a:pt x="21" y="30"/>
                    <a:pt x="13" y="30"/>
                  </a:cubicBezTo>
                  <a:cubicBezTo>
                    <a:pt x="4" y="30"/>
                    <a:pt x="0" y="24"/>
                    <a:pt x="1" y="15"/>
                  </a:cubicBezTo>
                  <a:cubicBezTo>
                    <a:pt x="3" y="6"/>
                    <a:pt x="10" y="0"/>
                    <a:pt x="18" y="0"/>
                  </a:cubicBezTo>
                  <a:close/>
                  <a:moveTo>
                    <a:pt x="13" y="26"/>
                  </a:moveTo>
                  <a:cubicBezTo>
                    <a:pt x="20" y="26"/>
                    <a:pt x="23" y="20"/>
                    <a:pt x="24" y="15"/>
                  </a:cubicBezTo>
                  <a:cubicBezTo>
                    <a:pt x="25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6" y="26"/>
                    <a:pt x="13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97760" y="3562560"/>
              <a:ext cx="151920" cy="1504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2" y="2"/>
                    <a:pt x="15" y="0"/>
                    <a:pt x="19" y="0"/>
                  </a:cubicBezTo>
                  <a:cubicBezTo>
                    <a:pt x="25" y="0"/>
                    <a:pt x="29" y="2"/>
                    <a:pt x="27" y="10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3" y="6"/>
                    <a:pt x="21" y="4"/>
                    <a:pt x="17" y="4"/>
                  </a:cubicBezTo>
                  <a:cubicBezTo>
                    <a:pt x="13" y="4"/>
                    <a:pt x="9" y="7"/>
                    <a:pt x="8" y="12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54720" y="3492720"/>
              <a:ext cx="182160" cy="22500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26" y="43"/>
                  </a:moveTo>
                  <a:cubicBezTo>
                    <a:pt x="21" y="43"/>
                    <a:pt x="21" y="43"/>
                    <a:pt x="21" y="43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19" y="43"/>
                    <a:pt x="16" y="44"/>
                    <a:pt x="12" y="44"/>
                  </a:cubicBezTo>
                  <a:cubicBezTo>
                    <a:pt x="2" y="44"/>
                    <a:pt x="0" y="37"/>
                    <a:pt x="1" y="29"/>
                  </a:cubicBezTo>
                  <a:cubicBezTo>
                    <a:pt x="3" y="21"/>
                    <a:pt x="8" y="14"/>
                    <a:pt x="18" y="14"/>
                  </a:cubicBezTo>
                  <a:cubicBezTo>
                    <a:pt x="22" y="14"/>
                    <a:pt x="25" y="15"/>
                    <a:pt x="26" y="1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26" y="43"/>
                  </a:lnTo>
                  <a:close/>
                  <a:moveTo>
                    <a:pt x="13" y="40"/>
                  </a:moveTo>
                  <a:cubicBezTo>
                    <a:pt x="20" y="40"/>
                    <a:pt x="23" y="35"/>
                    <a:pt x="24" y="29"/>
                  </a:cubicBezTo>
                  <a:cubicBezTo>
                    <a:pt x="25" y="23"/>
                    <a:pt x="23" y="18"/>
                    <a:pt x="17" y="18"/>
                  </a:cubicBezTo>
                  <a:cubicBezTo>
                    <a:pt x="11" y="18"/>
                    <a:pt x="7" y="23"/>
                    <a:pt x="6" y="29"/>
                  </a:cubicBezTo>
                  <a:cubicBezTo>
                    <a:pt x="5" y="35"/>
                    <a:pt x="7" y="40"/>
                    <a:pt x="13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37240" y="3567240"/>
              <a:ext cx="147240" cy="1504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3" y="28"/>
                  </a:moveTo>
                  <a:cubicBezTo>
                    <a:pt x="18" y="28"/>
                    <a:pt x="18" y="28"/>
                    <a:pt x="18" y="28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7" y="27"/>
                    <a:pt x="13" y="29"/>
                    <a:pt x="10" y="29"/>
                  </a:cubicBezTo>
                  <a:cubicBezTo>
                    <a:pt x="4" y="29"/>
                    <a:pt x="0" y="27"/>
                    <a:pt x="1" y="19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23"/>
                    <a:pt x="8" y="25"/>
                    <a:pt x="11" y="25"/>
                  </a:cubicBezTo>
                  <a:cubicBezTo>
                    <a:pt x="16" y="25"/>
                    <a:pt x="20" y="22"/>
                    <a:pt x="21" y="1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88080" y="3562560"/>
              <a:ext cx="161640" cy="155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1"/>
                    <a:pt x="7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62680" y="3522960"/>
              <a:ext cx="90360" cy="19476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" y="9"/>
                  </a:moveTo>
                  <a:cubicBezTo>
                    <a:pt x="6" y="9"/>
                    <a:pt x="6" y="9"/>
                    <a:pt x="6" y="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3"/>
                    <a:pt x="6" y="34"/>
                    <a:pt x="8" y="34"/>
                  </a:cubicBezTo>
                  <a:cubicBezTo>
                    <a:pt x="9" y="34"/>
                    <a:pt x="10" y="34"/>
                    <a:pt x="11" y="33"/>
                  </a:cubicBezTo>
                  <a:cubicBezTo>
                    <a:pt x="11" y="38"/>
                    <a:pt x="11" y="38"/>
                    <a:pt x="11" y="38"/>
                  </a:cubicBezTo>
                  <a:cubicBezTo>
                    <a:pt x="9" y="38"/>
                    <a:pt x="7" y="38"/>
                    <a:pt x="6" y="38"/>
                  </a:cubicBezTo>
                  <a:cubicBezTo>
                    <a:pt x="0" y="38"/>
                    <a:pt x="1" y="36"/>
                    <a:pt x="2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1" y="13"/>
                    <a:pt x="1" y="13"/>
                    <a:pt x="1" y="13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40440" y="3562560"/>
              <a:ext cx="164880" cy="1551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9" y="0"/>
                  </a:moveTo>
                  <a:cubicBezTo>
                    <a:pt x="28" y="0"/>
                    <a:pt x="32" y="6"/>
                    <a:pt x="30" y="15"/>
                  </a:cubicBezTo>
                  <a:cubicBezTo>
                    <a:pt x="29" y="24"/>
                    <a:pt x="22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lose/>
                  <a:moveTo>
                    <a:pt x="14" y="26"/>
                  </a:moveTo>
                  <a:cubicBezTo>
                    <a:pt x="21" y="26"/>
                    <a:pt x="24" y="20"/>
                    <a:pt x="25" y="15"/>
                  </a:cubicBezTo>
                  <a:cubicBezTo>
                    <a:pt x="26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7" y="26"/>
                    <a:pt x="14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13240" y="3562560"/>
              <a:ext cx="109080" cy="1504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6" y="1"/>
                  </a:moveTo>
                  <a:cubicBezTo>
                    <a:pt x="11" y="1"/>
                    <a:pt x="11" y="1"/>
                    <a:pt x="11" y="1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3" y="2"/>
                    <a:pt x="16" y="0"/>
                    <a:pt x="21" y="0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9" y="6"/>
                    <a:pt x="18" y="6"/>
                    <a:pt x="17" y="6"/>
                  </a:cubicBezTo>
                  <a:cubicBezTo>
                    <a:pt x="12" y="6"/>
                    <a:pt x="9" y="10"/>
                    <a:pt x="8" y="13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61800" y="2289240"/>
              <a:ext cx="382320" cy="20736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83920" y="2401560"/>
              <a:ext cx="372960" cy="21060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54" y="84"/>
                  </a:moveTo>
                  <a:lnTo>
                    <a:pt x="144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4" y="84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92000" y="2509560"/>
              <a:ext cx="382320" cy="21528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71240" y="2704320"/>
              <a:ext cx="380880" cy="2156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87240" y="2820240"/>
              <a:ext cx="377640" cy="20772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53720" y="2893320"/>
              <a:ext cx="372960" cy="21852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6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61800" y="3004200"/>
              <a:ext cx="382320" cy="21708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41400" y="3204000"/>
              <a:ext cx="382320" cy="2156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74320" y="2850480"/>
              <a:ext cx="307440" cy="57060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12" y="45"/>
                  </a:moveTo>
                  <a:cubicBezTo>
                    <a:pt x="0" y="45"/>
                    <a:pt x="0" y="45"/>
                    <a:pt x="0" y="45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13"/>
                    <a:pt x="24" y="0"/>
                    <a:pt x="44" y="0"/>
                  </a:cubicBezTo>
                  <a:cubicBezTo>
                    <a:pt x="49" y="0"/>
                    <a:pt x="57" y="0"/>
                    <a:pt x="59" y="1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49" y="19"/>
                    <a:pt x="49" y="19"/>
                    <a:pt x="49" y="19"/>
                  </a:cubicBezTo>
                  <a:cubicBezTo>
                    <a:pt x="45" y="19"/>
                    <a:pt x="41" y="20"/>
                    <a:pt x="40" y="25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3" y="110"/>
                    <a:pt x="23" y="110"/>
                    <a:pt x="23" y="110"/>
                  </a:cubicBezTo>
                  <a:cubicBezTo>
                    <a:pt x="0" y="110"/>
                    <a:pt x="0" y="110"/>
                    <a:pt x="0" y="110"/>
                  </a:cubicBezTo>
                  <a:lnTo>
                    <a:pt x="1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29920" y="2993400"/>
              <a:ext cx="325080" cy="42768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16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44" y="4"/>
                    <a:pt x="53" y="1"/>
                    <a:pt x="62" y="0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41" y="23"/>
                    <a:pt x="35" y="26"/>
                    <a:pt x="33" y="35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0" y="82"/>
                    <a:pt x="0" y="82"/>
                    <a:pt x="0" y="82"/>
                  </a:cubicBez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89840" y="2985480"/>
              <a:ext cx="450360" cy="443520"/>
            </a:xfrm>
            <a:custGeom>
              <a:avLst/>
              <a:gdLst/>
              <a:ahLst/>
              <a:rect l="l" t="t" r="r" b="b"/>
              <a:pathLst>
                <a:path w="87" h="86">
                  <a:moveTo>
                    <a:pt x="76" y="67"/>
                  </a:moveTo>
                  <a:cubicBezTo>
                    <a:pt x="75" y="72"/>
                    <a:pt x="74" y="79"/>
                    <a:pt x="75" y="84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2" y="81"/>
                    <a:pt x="52" y="78"/>
                    <a:pt x="53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47" y="82"/>
                    <a:pt x="34" y="86"/>
                    <a:pt x="26" y="86"/>
                  </a:cubicBezTo>
                  <a:cubicBezTo>
                    <a:pt x="10" y="86"/>
                    <a:pt x="0" y="77"/>
                    <a:pt x="3" y="62"/>
                  </a:cubicBezTo>
                  <a:cubicBezTo>
                    <a:pt x="7" y="42"/>
                    <a:pt x="24" y="35"/>
                    <a:pt x="51" y="32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24"/>
                    <a:pt x="61" y="24"/>
                    <a:pt x="61" y="24"/>
                  </a:cubicBezTo>
                  <a:cubicBezTo>
                    <a:pt x="62" y="17"/>
                    <a:pt x="58" y="15"/>
                    <a:pt x="51" y="15"/>
                  </a:cubicBezTo>
                  <a:cubicBezTo>
                    <a:pt x="44" y="15"/>
                    <a:pt x="40" y="18"/>
                    <a:pt x="3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9" y="2"/>
                    <a:pt x="41" y="0"/>
                    <a:pt x="52" y="0"/>
                  </a:cubicBezTo>
                  <a:cubicBezTo>
                    <a:pt x="75" y="0"/>
                    <a:pt x="87" y="5"/>
                    <a:pt x="84" y="24"/>
                  </a:cubicBezTo>
                  <a:lnTo>
                    <a:pt x="76" y="67"/>
                  </a:lnTo>
                  <a:close/>
                  <a:moveTo>
                    <a:pt x="57" y="44"/>
                  </a:moveTo>
                  <a:cubicBezTo>
                    <a:pt x="40" y="49"/>
                    <a:pt x="40" y="49"/>
                    <a:pt x="40" y="49"/>
                  </a:cubicBezTo>
                  <a:cubicBezTo>
                    <a:pt x="34" y="50"/>
                    <a:pt x="28" y="53"/>
                    <a:pt x="27" y="59"/>
                  </a:cubicBezTo>
                  <a:cubicBezTo>
                    <a:pt x="25" y="66"/>
                    <a:pt x="30" y="68"/>
                    <a:pt x="36" y="68"/>
                  </a:cubicBezTo>
                  <a:cubicBezTo>
                    <a:pt x="45" y="68"/>
                    <a:pt x="54" y="62"/>
                    <a:pt x="56" y="50"/>
                  </a:cubicBezTo>
                  <a:lnTo>
                    <a:pt x="5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54960" y="2855160"/>
              <a:ext cx="232920" cy="565920"/>
            </a:xfrm>
            <a:custGeom>
              <a:avLst/>
              <a:gdLst/>
              <a:ahLst/>
              <a:rect l="l" t="t" r="r" b="b"/>
              <a:pathLst>
                <a:path w="90" h="218">
                  <a:moveTo>
                    <a:pt x="0" y="218"/>
                  </a:moveTo>
                  <a:lnTo>
                    <a:pt x="42" y="0"/>
                  </a:lnTo>
                  <a:lnTo>
                    <a:pt x="90" y="0"/>
                  </a:lnTo>
                  <a:lnTo>
                    <a:pt x="48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17200" y="2985480"/>
              <a:ext cx="463320" cy="44352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7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80880" y="2985480"/>
              <a:ext cx="464760" cy="44352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9" y="0"/>
                    <a:pt x="10" y="17"/>
                    <a:pt x="5" y="45"/>
                  </a:cubicBezTo>
                  <a:cubicBezTo>
                    <a:pt x="0" y="68"/>
                    <a:pt x="12" y="86"/>
                    <a:pt x="37" y="86"/>
                  </a:cubicBezTo>
                  <a:cubicBezTo>
                    <a:pt x="55" y="86"/>
                    <a:pt x="69" y="79"/>
                    <a:pt x="81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7" y="18"/>
                    <a:pt x="65" y="21"/>
                    <a:pt x="63" y="3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53320" y="2985480"/>
              <a:ext cx="460080" cy="44352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41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8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6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3" y="55"/>
                    <a:pt x="63" y="55"/>
                    <a:pt x="63" y="55"/>
                  </a:cubicBezTo>
                  <a:cubicBezTo>
                    <a:pt x="55" y="64"/>
                    <a:pt x="50" y="68"/>
                    <a:pt x="41" y="68"/>
                  </a:cubicBezTo>
                  <a:close/>
                  <a:moveTo>
                    <a:pt x="49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3" y="22"/>
                    <a:pt x="42" y="18"/>
                    <a:pt x="49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54960" y="2985480"/>
              <a:ext cx="447480" cy="443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63" y="56"/>
                  </a:moveTo>
                  <a:cubicBezTo>
                    <a:pt x="57" y="65"/>
                    <a:pt x="51" y="67"/>
                    <a:pt x="44" y="67"/>
                  </a:cubicBezTo>
                  <a:cubicBezTo>
                    <a:pt x="31" y="67"/>
                    <a:pt x="27" y="57"/>
                    <a:pt x="30" y="43"/>
                  </a:cubicBezTo>
                  <a:cubicBezTo>
                    <a:pt x="33" y="29"/>
                    <a:pt x="40" y="19"/>
                    <a:pt x="53" y="19"/>
                  </a:cubicBezTo>
                  <a:cubicBezTo>
                    <a:pt x="57" y="19"/>
                    <a:pt x="65" y="21"/>
                    <a:pt x="67" y="31"/>
                  </a:cubicBezTo>
                  <a:cubicBezTo>
                    <a:pt x="86" y="19"/>
                    <a:pt x="86" y="19"/>
                    <a:pt x="86" y="19"/>
                  </a:cubicBezTo>
                  <a:cubicBezTo>
                    <a:pt x="81" y="6"/>
                    <a:pt x="69" y="0"/>
                    <a:pt x="54" y="0"/>
                  </a:cubicBezTo>
                  <a:cubicBezTo>
                    <a:pt x="31" y="0"/>
                    <a:pt x="10" y="16"/>
                    <a:pt x="5" y="43"/>
                  </a:cubicBezTo>
                  <a:cubicBezTo>
                    <a:pt x="0" y="70"/>
                    <a:pt x="14" y="86"/>
                    <a:pt x="38" y="86"/>
                  </a:cubicBezTo>
                  <a:cubicBezTo>
                    <a:pt x="54" y="86"/>
                    <a:pt x="69" y="77"/>
                    <a:pt x="79" y="64"/>
                  </a:cubicBezTo>
                  <a:lnTo>
                    <a:pt x="6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10720" y="2985480"/>
              <a:ext cx="472680" cy="44352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38" y="24"/>
                  </a:moveTo>
                  <a:cubicBezTo>
                    <a:pt x="39" y="20"/>
                    <a:pt x="43" y="18"/>
                    <a:pt x="49" y="18"/>
                  </a:cubicBezTo>
                  <a:cubicBezTo>
                    <a:pt x="57" y="18"/>
                    <a:pt x="66" y="21"/>
                    <a:pt x="70" y="26"/>
                  </a:cubicBezTo>
                  <a:cubicBezTo>
                    <a:pt x="90" y="14"/>
                    <a:pt x="90" y="14"/>
                    <a:pt x="90" y="14"/>
                  </a:cubicBezTo>
                  <a:cubicBezTo>
                    <a:pt x="79" y="4"/>
                    <a:pt x="66" y="0"/>
                    <a:pt x="54" y="0"/>
                  </a:cubicBezTo>
                  <a:cubicBezTo>
                    <a:pt x="37" y="0"/>
                    <a:pt x="18" y="8"/>
                    <a:pt x="14" y="29"/>
                  </a:cubicBezTo>
                  <a:cubicBezTo>
                    <a:pt x="8" y="58"/>
                    <a:pt x="59" y="47"/>
                    <a:pt x="56" y="60"/>
                  </a:cubicBezTo>
                  <a:cubicBezTo>
                    <a:pt x="55" y="67"/>
                    <a:pt x="45" y="68"/>
                    <a:pt x="41" y="68"/>
                  </a:cubicBezTo>
                  <a:cubicBezTo>
                    <a:pt x="31" y="68"/>
                    <a:pt x="24" y="64"/>
                    <a:pt x="18" y="5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9" y="81"/>
                    <a:pt x="20" y="86"/>
                    <a:pt x="37" y="86"/>
                  </a:cubicBezTo>
                  <a:cubicBezTo>
                    <a:pt x="55" y="86"/>
                    <a:pt x="76" y="78"/>
                    <a:pt x="80" y="57"/>
                  </a:cubicBezTo>
                  <a:cubicBezTo>
                    <a:pt x="86" y="26"/>
                    <a:pt x="35" y="38"/>
                    <a:pt x="38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16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marL="250920" indent="-250920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1160" indent="-208440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1841400" y="2289240"/>
            <a:ext cx="5451120" cy="1428480"/>
            <a:chOff x="1841400" y="2289240"/>
            <a:chExt cx="5451120" cy="1428480"/>
          </a:xfrm>
        </p:grpSpPr>
        <p:sp>
          <p:nvSpPr>
            <p:cNvPr id="328" name=""/>
            <p:cNvSpPr/>
            <p:nvPr/>
          </p:nvSpPr>
          <p:spPr>
            <a:xfrm>
              <a:off x="6359400" y="2847240"/>
              <a:ext cx="9331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32960" y="3562560"/>
              <a:ext cx="150120" cy="1551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7" y="19"/>
                  </a:moveTo>
                  <a:cubicBezTo>
                    <a:pt x="6" y="25"/>
                    <a:pt x="10" y="26"/>
                    <a:pt x="14" y="26"/>
                  </a:cubicBezTo>
                  <a:cubicBezTo>
                    <a:pt x="16" y="26"/>
                    <a:pt x="20" y="26"/>
                    <a:pt x="21" y="21"/>
                  </a:cubicBezTo>
                  <a:cubicBezTo>
                    <a:pt x="22" y="14"/>
                    <a:pt x="2" y="20"/>
                    <a:pt x="5" y="8"/>
                  </a:cubicBezTo>
                  <a:cubicBezTo>
                    <a:pt x="6" y="2"/>
                    <a:pt x="12" y="0"/>
                    <a:pt x="17" y="0"/>
                  </a:cubicBezTo>
                  <a:cubicBezTo>
                    <a:pt x="21" y="0"/>
                    <a:pt x="29" y="2"/>
                    <a:pt x="28" y="9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3" y="6"/>
                    <a:pt x="20" y="4"/>
                    <a:pt x="17" y="4"/>
                  </a:cubicBezTo>
                  <a:cubicBezTo>
                    <a:pt x="14" y="4"/>
                    <a:pt x="10" y="4"/>
                    <a:pt x="10" y="8"/>
                  </a:cubicBezTo>
                  <a:cubicBezTo>
                    <a:pt x="8" y="15"/>
                    <a:pt x="28" y="10"/>
                    <a:pt x="26" y="21"/>
                  </a:cubicBezTo>
                  <a:cubicBezTo>
                    <a:pt x="25" y="27"/>
                    <a:pt x="18" y="30"/>
                    <a:pt x="12" y="30"/>
                  </a:cubicBezTo>
                  <a:cubicBezTo>
                    <a:pt x="6" y="30"/>
                    <a:pt x="0" y="27"/>
                    <a:pt x="1" y="20"/>
                  </a:cubicBez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93160" y="3562560"/>
              <a:ext cx="151920" cy="155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7" y="16"/>
                  </a:moveTo>
                  <a:cubicBezTo>
                    <a:pt x="5" y="22"/>
                    <a:pt x="8" y="26"/>
                    <a:pt x="13" y="26"/>
                  </a:cubicBezTo>
                  <a:cubicBezTo>
                    <a:pt x="18" y="26"/>
                    <a:pt x="21" y="24"/>
                    <a:pt x="23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4" y="27"/>
                    <a:pt x="19" y="30"/>
                    <a:pt x="12" y="30"/>
                  </a:cubicBezTo>
                  <a:cubicBezTo>
                    <a:pt x="3" y="30"/>
                    <a:pt x="0" y="23"/>
                    <a:pt x="1" y="15"/>
                  </a:cubicBezTo>
                  <a:cubicBezTo>
                    <a:pt x="3" y="6"/>
                    <a:pt x="9" y="0"/>
                    <a:pt x="18" y="0"/>
                  </a:cubicBezTo>
                  <a:cubicBezTo>
                    <a:pt x="27" y="0"/>
                    <a:pt x="30" y="6"/>
                    <a:pt x="29" y="15"/>
                  </a:cubicBezTo>
                  <a:cubicBezTo>
                    <a:pt x="28" y="16"/>
                    <a:pt x="28" y="16"/>
                    <a:pt x="28" y="16"/>
                  </a:cubicBezTo>
                  <a:lnTo>
                    <a:pt x="7" y="16"/>
                  </a:lnTo>
                  <a:close/>
                  <a:moveTo>
                    <a:pt x="24" y="12"/>
                  </a:moveTo>
                  <a:cubicBezTo>
                    <a:pt x="24" y="8"/>
                    <a:pt x="22" y="4"/>
                    <a:pt x="17" y="4"/>
                  </a:cubicBezTo>
                  <a:cubicBezTo>
                    <a:pt x="12" y="4"/>
                    <a:pt x="8" y="8"/>
                    <a:pt x="7" y="12"/>
                  </a:cubicBezTo>
                  <a:lnTo>
                    <a:pt x="2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56600" y="3562560"/>
              <a:ext cx="230040" cy="1504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2" y="2"/>
                    <a:pt x="15" y="0"/>
                    <a:pt x="18" y="0"/>
                  </a:cubicBezTo>
                  <a:cubicBezTo>
                    <a:pt x="21" y="0"/>
                    <a:pt x="25" y="1"/>
                    <a:pt x="26" y="5"/>
                  </a:cubicBezTo>
                  <a:cubicBezTo>
                    <a:pt x="28" y="2"/>
                    <a:pt x="32" y="0"/>
                    <a:pt x="35" y="0"/>
                  </a:cubicBezTo>
                  <a:cubicBezTo>
                    <a:pt x="40" y="0"/>
                    <a:pt x="44" y="2"/>
                    <a:pt x="43" y="1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7"/>
                    <a:pt x="37" y="4"/>
                    <a:pt x="34" y="4"/>
                  </a:cubicBezTo>
                  <a:cubicBezTo>
                    <a:pt x="31" y="4"/>
                    <a:pt x="26" y="6"/>
                    <a:pt x="26" y="1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7"/>
                    <a:pt x="20" y="4"/>
                    <a:pt x="17" y="4"/>
                  </a:cubicBezTo>
                  <a:cubicBezTo>
                    <a:pt x="14" y="4"/>
                    <a:pt x="9" y="6"/>
                    <a:pt x="8" y="10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99600" y="3492720"/>
              <a:ext cx="69480" cy="220320"/>
            </a:xfrm>
            <a:custGeom>
              <a:avLst/>
              <a:gdLst/>
              <a:ahLst/>
              <a:rect l="l" t="t" r="r" b="b"/>
              <a:pathLst>
                <a:path w="26" h="86">
                  <a:moveTo>
                    <a:pt x="10" y="30"/>
                  </a:moveTo>
                  <a:lnTo>
                    <a:pt x="20" y="30"/>
                  </a:lnTo>
                  <a:lnTo>
                    <a:pt x="8" y="86"/>
                  </a:lnTo>
                  <a:lnTo>
                    <a:pt x="0" y="86"/>
                  </a:lnTo>
                  <a:lnTo>
                    <a:pt x="10" y="30"/>
                  </a:lnTo>
                  <a:close/>
                  <a:moveTo>
                    <a:pt x="16" y="0"/>
                  </a:moveTo>
                  <a:lnTo>
                    <a:pt x="26" y="0"/>
                  </a:lnTo>
                  <a:lnTo>
                    <a:pt x="24" y="12"/>
                  </a:lnTo>
                  <a:lnTo>
                    <a:pt x="14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55040" y="3562560"/>
              <a:ext cx="161640" cy="155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9" y="4"/>
                  </a:cubicBezTo>
                  <a:cubicBezTo>
                    <a:pt x="12" y="4"/>
                    <a:pt x="8" y="10"/>
                    <a:pt x="7" y="15"/>
                  </a:cubicBezTo>
                  <a:cubicBezTo>
                    <a:pt x="6" y="21"/>
                    <a:pt x="8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29280" y="3562560"/>
              <a:ext cx="160200" cy="1551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18" y="0"/>
                  </a:moveTo>
                  <a:cubicBezTo>
                    <a:pt x="27" y="0"/>
                    <a:pt x="31" y="6"/>
                    <a:pt x="30" y="15"/>
                  </a:cubicBezTo>
                  <a:cubicBezTo>
                    <a:pt x="28" y="24"/>
                    <a:pt x="21" y="30"/>
                    <a:pt x="13" y="30"/>
                  </a:cubicBezTo>
                  <a:cubicBezTo>
                    <a:pt x="4" y="30"/>
                    <a:pt x="0" y="24"/>
                    <a:pt x="1" y="15"/>
                  </a:cubicBezTo>
                  <a:cubicBezTo>
                    <a:pt x="3" y="6"/>
                    <a:pt x="10" y="0"/>
                    <a:pt x="18" y="0"/>
                  </a:cubicBezTo>
                  <a:close/>
                  <a:moveTo>
                    <a:pt x="13" y="26"/>
                  </a:moveTo>
                  <a:cubicBezTo>
                    <a:pt x="20" y="26"/>
                    <a:pt x="23" y="20"/>
                    <a:pt x="24" y="15"/>
                  </a:cubicBezTo>
                  <a:cubicBezTo>
                    <a:pt x="25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6" y="26"/>
                    <a:pt x="13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97760" y="3562560"/>
              <a:ext cx="151920" cy="1504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5" y="1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2" y="2"/>
                    <a:pt x="15" y="0"/>
                    <a:pt x="19" y="0"/>
                  </a:cubicBezTo>
                  <a:cubicBezTo>
                    <a:pt x="25" y="0"/>
                    <a:pt x="29" y="2"/>
                    <a:pt x="27" y="10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3" y="6"/>
                    <a:pt x="21" y="4"/>
                    <a:pt x="17" y="4"/>
                  </a:cubicBezTo>
                  <a:cubicBezTo>
                    <a:pt x="13" y="4"/>
                    <a:pt x="9" y="7"/>
                    <a:pt x="8" y="12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54720" y="3492720"/>
              <a:ext cx="182160" cy="22500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26" y="43"/>
                  </a:moveTo>
                  <a:cubicBezTo>
                    <a:pt x="21" y="43"/>
                    <a:pt x="21" y="43"/>
                    <a:pt x="21" y="43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19" y="43"/>
                    <a:pt x="16" y="44"/>
                    <a:pt x="12" y="44"/>
                  </a:cubicBezTo>
                  <a:cubicBezTo>
                    <a:pt x="2" y="44"/>
                    <a:pt x="0" y="37"/>
                    <a:pt x="1" y="29"/>
                  </a:cubicBezTo>
                  <a:cubicBezTo>
                    <a:pt x="3" y="21"/>
                    <a:pt x="8" y="14"/>
                    <a:pt x="18" y="14"/>
                  </a:cubicBezTo>
                  <a:cubicBezTo>
                    <a:pt x="22" y="14"/>
                    <a:pt x="25" y="15"/>
                    <a:pt x="26" y="1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5" y="0"/>
                    <a:pt x="35" y="0"/>
                    <a:pt x="35" y="0"/>
                  </a:cubicBezTo>
                  <a:lnTo>
                    <a:pt x="26" y="43"/>
                  </a:lnTo>
                  <a:close/>
                  <a:moveTo>
                    <a:pt x="13" y="40"/>
                  </a:moveTo>
                  <a:cubicBezTo>
                    <a:pt x="20" y="40"/>
                    <a:pt x="23" y="35"/>
                    <a:pt x="24" y="29"/>
                  </a:cubicBezTo>
                  <a:cubicBezTo>
                    <a:pt x="25" y="23"/>
                    <a:pt x="23" y="18"/>
                    <a:pt x="17" y="18"/>
                  </a:cubicBezTo>
                  <a:cubicBezTo>
                    <a:pt x="11" y="18"/>
                    <a:pt x="7" y="23"/>
                    <a:pt x="6" y="29"/>
                  </a:cubicBezTo>
                  <a:cubicBezTo>
                    <a:pt x="5" y="35"/>
                    <a:pt x="7" y="40"/>
                    <a:pt x="13" y="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7240" y="3567240"/>
              <a:ext cx="147240" cy="1504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3" y="28"/>
                  </a:moveTo>
                  <a:cubicBezTo>
                    <a:pt x="18" y="28"/>
                    <a:pt x="18" y="28"/>
                    <a:pt x="18" y="28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7" y="27"/>
                    <a:pt x="13" y="29"/>
                    <a:pt x="10" y="29"/>
                  </a:cubicBezTo>
                  <a:cubicBezTo>
                    <a:pt x="4" y="29"/>
                    <a:pt x="0" y="27"/>
                    <a:pt x="1" y="19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23"/>
                    <a:pt x="8" y="25"/>
                    <a:pt x="11" y="25"/>
                  </a:cubicBezTo>
                  <a:cubicBezTo>
                    <a:pt x="16" y="25"/>
                    <a:pt x="20" y="22"/>
                    <a:pt x="21" y="1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88080" y="3562560"/>
              <a:ext cx="161640" cy="1551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5" y="10"/>
                  </a:moveTo>
                  <a:cubicBezTo>
                    <a:pt x="25" y="6"/>
                    <a:pt x="22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1"/>
                    <a:pt x="7" y="26"/>
                    <a:pt x="14" y="26"/>
                  </a:cubicBezTo>
                  <a:cubicBezTo>
                    <a:pt x="19" y="26"/>
                    <a:pt x="23" y="23"/>
                    <a:pt x="24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26"/>
                    <a:pt x="21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ubicBezTo>
                    <a:pt x="25" y="0"/>
                    <a:pt x="30" y="3"/>
                    <a:pt x="30" y="10"/>
                  </a:cubicBez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62680" y="3522960"/>
              <a:ext cx="90360" cy="19476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" y="9"/>
                  </a:moveTo>
                  <a:cubicBezTo>
                    <a:pt x="6" y="9"/>
                    <a:pt x="6" y="9"/>
                    <a:pt x="6" y="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3"/>
                    <a:pt x="6" y="34"/>
                    <a:pt x="8" y="34"/>
                  </a:cubicBezTo>
                  <a:cubicBezTo>
                    <a:pt x="9" y="34"/>
                    <a:pt x="10" y="34"/>
                    <a:pt x="11" y="33"/>
                  </a:cubicBezTo>
                  <a:cubicBezTo>
                    <a:pt x="11" y="38"/>
                    <a:pt x="11" y="38"/>
                    <a:pt x="11" y="38"/>
                  </a:cubicBezTo>
                  <a:cubicBezTo>
                    <a:pt x="9" y="38"/>
                    <a:pt x="7" y="38"/>
                    <a:pt x="6" y="38"/>
                  </a:cubicBezTo>
                  <a:cubicBezTo>
                    <a:pt x="0" y="38"/>
                    <a:pt x="1" y="36"/>
                    <a:pt x="2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1" y="13"/>
                    <a:pt x="1" y="13"/>
                    <a:pt x="1" y="13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40440" y="3562560"/>
              <a:ext cx="164880" cy="1551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19" y="0"/>
                  </a:moveTo>
                  <a:cubicBezTo>
                    <a:pt x="28" y="0"/>
                    <a:pt x="32" y="6"/>
                    <a:pt x="30" y="15"/>
                  </a:cubicBezTo>
                  <a:cubicBezTo>
                    <a:pt x="29" y="24"/>
                    <a:pt x="22" y="30"/>
                    <a:pt x="13" y="30"/>
                  </a:cubicBezTo>
                  <a:cubicBezTo>
                    <a:pt x="4" y="30"/>
                    <a:pt x="0" y="24"/>
                    <a:pt x="2" y="15"/>
                  </a:cubicBezTo>
                  <a:cubicBezTo>
                    <a:pt x="4" y="6"/>
                    <a:pt x="10" y="0"/>
                    <a:pt x="19" y="0"/>
                  </a:cubicBezTo>
                  <a:close/>
                  <a:moveTo>
                    <a:pt x="14" y="26"/>
                  </a:moveTo>
                  <a:cubicBezTo>
                    <a:pt x="21" y="26"/>
                    <a:pt x="24" y="20"/>
                    <a:pt x="25" y="15"/>
                  </a:cubicBezTo>
                  <a:cubicBezTo>
                    <a:pt x="26" y="10"/>
                    <a:pt x="25" y="4"/>
                    <a:pt x="18" y="4"/>
                  </a:cubicBezTo>
                  <a:cubicBezTo>
                    <a:pt x="11" y="4"/>
                    <a:pt x="8" y="10"/>
                    <a:pt x="7" y="15"/>
                  </a:cubicBezTo>
                  <a:cubicBezTo>
                    <a:pt x="6" y="20"/>
                    <a:pt x="7" y="26"/>
                    <a:pt x="14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13240" y="3562560"/>
              <a:ext cx="109080" cy="15048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6" y="1"/>
                  </a:moveTo>
                  <a:cubicBezTo>
                    <a:pt x="11" y="1"/>
                    <a:pt x="11" y="1"/>
                    <a:pt x="11" y="1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3" y="2"/>
                    <a:pt x="16" y="0"/>
                    <a:pt x="21" y="0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9" y="6"/>
                    <a:pt x="18" y="6"/>
                    <a:pt x="17" y="6"/>
                  </a:cubicBezTo>
                  <a:cubicBezTo>
                    <a:pt x="12" y="6"/>
                    <a:pt x="9" y="10"/>
                    <a:pt x="8" y="13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0" y="29"/>
                    <a:pt x="0" y="29"/>
                    <a:pt x="0" y="29"/>
                  </a:cubicBez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61800" y="2289240"/>
              <a:ext cx="382320" cy="20736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3920" y="2401560"/>
              <a:ext cx="372960" cy="21060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54" y="84"/>
                  </a:moveTo>
                  <a:lnTo>
                    <a:pt x="144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4" y="84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92000" y="2509560"/>
              <a:ext cx="382320" cy="21528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71240" y="2704320"/>
              <a:ext cx="380880" cy="2156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87240" y="2820240"/>
              <a:ext cx="377640" cy="20772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53720" y="2893320"/>
              <a:ext cx="372960" cy="21852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6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61800" y="3004200"/>
              <a:ext cx="382320" cy="217080"/>
            </a:xfrm>
            <a:custGeom>
              <a:avLst/>
              <a:gdLst/>
              <a:ahLst/>
              <a:rect l="l" t="t" r="r" b="b"/>
              <a:pathLst>
                <a:path w="146" h="82">
                  <a:moveTo>
                    <a:pt x="56" y="82"/>
                  </a:moveTo>
                  <a:lnTo>
                    <a:pt x="146" y="28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2"/>
                  </a:lnTo>
                  <a:close/>
                </a:path>
              </a:pathLst>
            </a:cu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41400" y="3204000"/>
              <a:ext cx="382320" cy="215640"/>
            </a:xfrm>
            <a:custGeom>
              <a:avLst/>
              <a:gdLst/>
              <a:ahLst/>
              <a:rect l="l" t="t" r="r" b="b"/>
              <a:pathLst>
                <a:path w="146" h="84">
                  <a:moveTo>
                    <a:pt x="56" y="84"/>
                  </a:moveTo>
                  <a:lnTo>
                    <a:pt x="146" y="30"/>
                  </a:lnTo>
                  <a:lnTo>
                    <a:pt x="90" y="0"/>
                  </a:lnTo>
                  <a:lnTo>
                    <a:pt x="0" y="5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f26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74320" y="2850480"/>
              <a:ext cx="307440" cy="57060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12" y="45"/>
                  </a:moveTo>
                  <a:cubicBezTo>
                    <a:pt x="0" y="45"/>
                    <a:pt x="0" y="45"/>
                    <a:pt x="0" y="45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13"/>
                    <a:pt x="24" y="0"/>
                    <a:pt x="44" y="0"/>
                  </a:cubicBezTo>
                  <a:cubicBezTo>
                    <a:pt x="49" y="0"/>
                    <a:pt x="57" y="0"/>
                    <a:pt x="59" y="1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49" y="19"/>
                    <a:pt x="49" y="19"/>
                    <a:pt x="49" y="19"/>
                  </a:cubicBezTo>
                  <a:cubicBezTo>
                    <a:pt x="45" y="19"/>
                    <a:pt x="41" y="20"/>
                    <a:pt x="40" y="25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54" y="30"/>
                    <a:pt x="54" y="30"/>
                    <a:pt x="54" y="30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23" y="110"/>
                    <a:pt x="23" y="110"/>
                    <a:pt x="23" y="110"/>
                  </a:cubicBezTo>
                  <a:cubicBezTo>
                    <a:pt x="0" y="110"/>
                    <a:pt x="0" y="110"/>
                    <a:pt x="0" y="110"/>
                  </a:cubicBezTo>
                  <a:lnTo>
                    <a:pt x="1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29920" y="2993400"/>
              <a:ext cx="325080" cy="42768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16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44" y="4"/>
                    <a:pt x="53" y="1"/>
                    <a:pt x="62" y="0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41" y="23"/>
                    <a:pt x="35" y="26"/>
                    <a:pt x="33" y="35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0" y="82"/>
                    <a:pt x="0" y="82"/>
                    <a:pt x="0" y="82"/>
                  </a:cubicBez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89840" y="2985480"/>
              <a:ext cx="450360" cy="443520"/>
            </a:xfrm>
            <a:custGeom>
              <a:avLst/>
              <a:gdLst/>
              <a:ahLst/>
              <a:rect l="l" t="t" r="r" b="b"/>
              <a:pathLst>
                <a:path w="87" h="86">
                  <a:moveTo>
                    <a:pt x="76" y="67"/>
                  </a:moveTo>
                  <a:cubicBezTo>
                    <a:pt x="75" y="72"/>
                    <a:pt x="74" y="79"/>
                    <a:pt x="75" y="84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2" y="81"/>
                    <a:pt x="52" y="78"/>
                    <a:pt x="53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47" y="82"/>
                    <a:pt x="34" y="86"/>
                    <a:pt x="26" y="86"/>
                  </a:cubicBezTo>
                  <a:cubicBezTo>
                    <a:pt x="10" y="86"/>
                    <a:pt x="0" y="77"/>
                    <a:pt x="3" y="62"/>
                  </a:cubicBezTo>
                  <a:cubicBezTo>
                    <a:pt x="7" y="42"/>
                    <a:pt x="24" y="35"/>
                    <a:pt x="51" y="32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24"/>
                    <a:pt x="61" y="24"/>
                    <a:pt x="61" y="24"/>
                  </a:cubicBezTo>
                  <a:cubicBezTo>
                    <a:pt x="62" y="17"/>
                    <a:pt x="58" y="15"/>
                    <a:pt x="51" y="15"/>
                  </a:cubicBezTo>
                  <a:cubicBezTo>
                    <a:pt x="44" y="15"/>
                    <a:pt x="40" y="18"/>
                    <a:pt x="3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9" y="2"/>
                    <a:pt x="41" y="0"/>
                    <a:pt x="52" y="0"/>
                  </a:cubicBezTo>
                  <a:cubicBezTo>
                    <a:pt x="75" y="0"/>
                    <a:pt x="87" y="5"/>
                    <a:pt x="84" y="24"/>
                  </a:cubicBezTo>
                  <a:lnTo>
                    <a:pt x="76" y="67"/>
                  </a:lnTo>
                  <a:close/>
                  <a:moveTo>
                    <a:pt x="57" y="44"/>
                  </a:moveTo>
                  <a:cubicBezTo>
                    <a:pt x="40" y="49"/>
                    <a:pt x="40" y="49"/>
                    <a:pt x="40" y="49"/>
                  </a:cubicBezTo>
                  <a:cubicBezTo>
                    <a:pt x="34" y="50"/>
                    <a:pt x="28" y="53"/>
                    <a:pt x="27" y="59"/>
                  </a:cubicBezTo>
                  <a:cubicBezTo>
                    <a:pt x="25" y="66"/>
                    <a:pt x="30" y="68"/>
                    <a:pt x="36" y="68"/>
                  </a:cubicBezTo>
                  <a:cubicBezTo>
                    <a:pt x="45" y="68"/>
                    <a:pt x="54" y="62"/>
                    <a:pt x="56" y="50"/>
                  </a:cubicBezTo>
                  <a:lnTo>
                    <a:pt x="5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54960" y="2855160"/>
              <a:ext cx="232920" cy="565920"/>
            </a:xfrm>
            <a:custGeom>
              <a:avLst/>
              <a:gdLst/>
              <a:ahLst/>
              <a:rect l="l" t="t" r="r" b="b"/>
              <a:pathLst>
                <a:path w="90" h="218">
                  <a:moveTo>
                    <a:pt x="0" y="218"/>
                  </a:moveTo>
                  <a:lnTo>
                    <a:pt x="42" y="0"/>
                  </a:lnTo>
                  <a:lnTo>
                    <a:pt x="90" y="0"/>
                  </a:lnTo>
                  <a:lnTo>
                    <a:pt x="48" y="218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17200" y="2985480"/>
              <a:ext cx="463320" cy="44352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7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80880" y="2985480"/>
              <a:ext cx="464760" cy="44352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42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9" y="23"/>
                    <a:pt x="83" y="0"/>
                    <a:pt x="53" y="0"/>
                  </a:cubicBezTo>
                  <a:cubicBezTo>
                    <a:pt x="29" y="0"/>
                    <a:pt x="10" y="17"/>
                    <a:pt x="5" y="45"/>
                  </a:cubicBezTo>
                  <a:cubicBezTo>
                    <a:pt x="0" y="68"/>
                    <a:pt x="12" y="86"/>
                    <a:pt x="37" y="86"/>
                  </a:cubicBezTo>
                  <a:cubicBezTo>
                    <a:pt x="55" y="86"/>
                    <a:pt x="69" y="79"/>
                    <a:pt x="81" y="63"/>
                  </a:cubicBezTo>
                  <a:cubicBezTo>
                    <a:pt x="64" y="55"/>
                    <a:pt x="64" y="55"/>
                    <a:pt x="64" y="55"/>
                  </a:cubicBezTo>
                  <a:cubicBezTo>
                    <a:pt x="55" y="64"/>
                    <a:pt x="50" y="68"/>
                    <a:pt x="42" y="68"/>
                  </a:cubicBezTo>
                  <a:close/>
                  <a:moveTo>
                    <a:pt x="50" y="18"/>
                  </a:moveTo>
                  <a:cubicBezTo>
                    <a:pt x="57" y="18"/>
                    <a:pt x="65" y="21"/>
                    <a:pt x="63" y="3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4" y="22"/>
                    <a:pt x="43" y="18"/>
                    <a:pt x="50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53320" y="2985480"/>
              <a:ext cx="460080" cy="44352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41" y="68"/>
                  </a:moveTo>
                  <a:cubicBezTo>
                    <a:pt x="34" y="68"/>
                    <a:pt x="25" y="63"/>
                    <a:pt x="28" y="48"/>
                  </a:cubicBezTo>
                  <a:cubicBezTo>
                    <a:pt x="84" y="48"/>
                    <a:pt x="84" y="48"/>
                    <a:pt x="84" y="48"/>
                  </a:cubicBezTo>
                  <a:cubicBezTo>
                    <a:pt x="88" y="23"/>
                    <a:pt x="83" y="0"/>
                    <a:pt x="53" y="0"/>
                  </a:cubicBezTo>
                  <a:cubicBezTo>
                    <a:pt x="28" y="0"/>
                    <a:pt x="10" y="17"/>
                    <a:pt x="4" y="45"/>
                  </a:cubicBezTo>
                  <a:cubicBezTo>
                    <a:pt x="0" y="68"/>
                    <a:pt x="11" y="86"/>
                    <a:pt x="36" y="86"/>
                  </a:cubicBezTo>
                  <a:cubicBezTo>
                    <a:pt x="55" y="86"/>
                    <a:pt x="69" y="79"/>
                    <a:pt x="80" y="63"/>
                  </a:cubicBezTo>
                  <a:cubicBezTo>
                    <a:pt x="63" y="55"/>
                    <a:pt x="63" y="55"/>
                    <a:pt x="63" y="55"/>
                  </a:cubicBezTo>
                  <a:cubicBezTo>
                    <a:pt x="55" y="64"/>
                    <a:pt x="50" y="68"/>
                    <a:pt x="41" y="68"/>
                  </a:cubicBezTo>
                  <a:close/>
                  <a:moveTo>
                    <a:pt x="49" y="18"/>
                  </a:moveTo>
                  <a:cubicBezTo>
                    <a:pt x="56" y="18"/>
                    <a:pt x="64" y="21"/>
                    <a:pt x="63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3" y="22"/>
                    <a:pt x="42" y="18"/>
                    <a:pt x="49" y="1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54960" y="2985480"/>
              <a:ext cx="447480" cy="44352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63" y="56"/>
                  </a:moveTo>
                  <a:cubicBezTo>
                    <a:pt x="57" y="65"/>
                    <a:pt x="51" y="67"/>
                    <a:pt x="44" y="67"/>
                  </a:cubicBezTo>
                  <a:cubicBezTo>
                    <a:pt x="31" y="67"/>
                    <a:pt x="27" y="57"/>
                    <a:pt x="30" y="43"/>
                  </a:cubicBezTo>
                  <a:cubicBezTo>
                    <a:pt x="33" y="29"/>
                    <a:pt x="40" y="19"/>
                    <a:pt x="53" y="19"/>
                  </a:cubicBezTo>
                  <a:cubicBezTo>
                    <a:pt x="57" y="19"/>
                    <a:pt x="65" y="21"/>
                    <a:pt x="67" y="31"/>
                  </a:cubicBezTo>
                  <a:cubicBezTo>
                    <a:pt x="86" y="19"/>
                    <a:pt x="86" y="19"/>
                    <a:pt x="86" y="19"/>
                  </a:cubicBezTo>
                  <a:cubicBezTo>
                    <a:pt x="81" y="6"/>
                    <a:pt x="69" y="0"/>
                    <a:pt x="54" y="0"/>
                  </a:cubicBezTo>
                  <a:cubicBezTo>
                    <a:pt x="31" y="0"/>
                    <a:pt x="10" y="16"/>
                    <a:pt x="5" y="43"/>
                  </a:cubicBezTo>
                  <a:cubicBezTo>
                    <a:pt x="0" y="70"/>
                    <a:pt x="14" y="86"/>
                    <a:pt x="38" y="86"/>
                  </a:cubicBezTo>
                  <a:cubicBezTo>
                    <a:pt x="54" y="86"/>
                    <a:pt x="69" y="77"/>
                    <a:pt x="79" y="64"/>
                  </a:cubicBezTo>
                  <a:lnTo>
                    <a:pt x="6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10720" y="2985480"/>
              <a:ext cx="472680" cy="44352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38" y="24"/>
                  </a:moveTo>
                  <a:cubicBezTo>
                    <a:pt x="39" y="20"/>
                    <a:pt x="43" y="18"/>
                    <a:pt x="49" y="18"/>
                  </a:cubicBezTo>
                  <a:cubicBezTo>
                    <a:pt x="57" y="18"/>
                    <a:pt x="66" y="21"/>
                    <a:pt x="70" y="26"/>
                  </a:cubicBezTo>
                  <a:cubicBezTo>
                    <a:pt x="90" y="14"/>
                    <a:pt x="90" y="14"/>
                    <a:pt x="90" y="14"/>
                  </a:cubicBezTo>
                  <a:cubicBezTo>
                    <a:pt x="79" y="4"/>
                    <a:pt x="66" y="0"/>
                    <a:pt x="54" y="0"/>
                  </a:cubicBezTo>
                  <a:cubicBezTo>
                    <a:pt x="37" y="0"/>
                    <a:pt x="18" y="8"/>
                    <a:pt x="14" y="29"/>
                  </a:cubicBezTo>
                  <a:cubicBezTo>
                    <a:pt x="8" y="58"/>
                    <a:pt x="59" y="47"/>
                    <a:pt x="56" y="60"/>
                  </a:cubicBezTo>
                  <a:cubicBezTo>
                    <a:pt x="55" y="67"/>
                    <a:pt x="45" y="68"/>
                    <a:pt x="41" y="68"/>
                  </a:cubicBezTo>
                  <a:cubicBezTo>
                    <a:pt x="31" y="68"/>
                    <a:pt x="24" y="64"/>
                    <a:pt x="18" y="5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9" y="81"/>
                    <a:pt x="20" y="86"/>
                    <a:pt x="37" y="86"/>
                  </a:cubicBezTo>
                  <a:cubicBezTo>
                    <a:pt x="55" y="86"/>
                    <a:pt x="76" y="78"/>
                    <a:pt x="80" y="57"/>
                  </a:cubicBezTo>
                  <a:cubicBezTo>
                    <a:pt x="86" y="26"/>
                    <a:pt x="35" y="38"/>
                    <a:pt x="38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90440" y="5187960"/>
            <a:ext cx="63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91440" anchor="t">
            <a:noAutofit/>
          </a:bodyPr>
          <a:p>
            <a:pPr>
              <a:lnSpc>
                <a:spcPct val="75000"/>
              </a:lnSpc>
              <a:spcAft>
                <a:spcPts val="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Aft>
                <a:spcPts val="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edded Linux Conference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190080" y="4405320"/>
            <a:ext cx="57438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p>
            <a:pPr indent="0">
              <a:lnSpc>
                <a:spcPct val="79000"/>
              </a:lnSpc>
              <a:spcBef>
                <a:spcPts val="71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dding Framebuffer support to Freescale SoC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0440" y="4064040"/>
            <a:ext cx="6353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17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0440" y="5724360"/>
            <a:ext cx="72900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91440" anchor="t">
            <a:noAutofit/>
          </a:bodyPr>
          <a:p>
            <a:pPr>
              <a:lnSpc>
                <a:spcPct val="93000"/>
              </a:lnSpc>
              <a:spcAft>
                <a:spcPts val="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rk Sun, Ben Ecker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scale Semico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5867280" y="1066680"/>
            <a:ext cx="1524240" cy="2743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U Modes of Operation- Mod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840" y="933120"/>
            <a:ext cx="59295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 1: All Planes Output to Display Pan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648320" y="1768320"/>
            <a:ext cx="66996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8600" y="4343400"/>
            <a:ext cx="57150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648320" y="1768320"/>
            <a:ext cx="114300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28600" y="1752480"/>
            <a:ext cx="190512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/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PU or GP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7"/>
          <a:stretch/>
        </p:blipFill>
        <p:spPr>
          <a:xfrm>
            <a:off x="7302600" y="1676520"/>
            <a:ext cx="1841400" cy="17967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rot="5400000">
            <a:off x="754560" y="3528000"/>
            <a:ext cx="1066680" cy="411480"/>
          </a:xfrm>
          <a:prstGeom prst="rightArrow">
            <a:avLst>
              <a:gd name="adj1" fmla="val 50000"/>
              <a:gd name="adj2" fmla="val 648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16200000">
            <a:off x="2338920" y="3527640"/>
            <a:ext cx="1066680" cy="411120"/>
          </a:xfrm>
          <a:prstGeom prst="rightArrow">
            <a:avLst>
              <a:gd name="adj1" fmla="val 50000"/>
              <a:gd name="adj2" fmla="val 648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13716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1447920"/>
            <a:ext cx="2209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/or graphic 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28600" y="3505320"/>
            <a:ext cx="838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943600" y="1828800"/>
            <a:ext cx="1139760" cy="1321920"/>
            <a:chOff x="5943600" y="1828800"/>
            <a:chExt cx="1139760" cy="1321920"/>
          </a:xfrm>
        </p:grpSpPr>
        <p:sp>
          <p:nvSpPr>
            <p:cNvPr id="560" name=""/>
            <p:cNvSpPr/>
            <p:nvPr/>
          </p:nvSpPr>
          <p:spPr>
            <a:xfrm>
              <a:off x="5943600" y="1828800"/>
              <a:ext cx="1139760" cy="410400"/>
            </a:xfrm>
            <a:prstGeom prst="rightArrow">
              <a:avLst>
                <a:gd name="adj1" fmla="val 50000"/>
                <a:gd name="adj2" fmla="val 6943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43600" y="1828800"/>
              <a:ext cx="1139760" cy="410400"/>
            </a:xfrm>
            <a:prstGeom prst="rightArrow">
              <a:avLst>
                <a:gd name="adj1" fmla="val 50000"/>
                <a:gd name="adj2" fmla="val 6943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43600" y="2285280"/>
              <a:ext cx="1139760" cy="410400"/>
            </a:xfrm>
            <a:prstGeom prst="rightArrow">
              <a:avLst>
                <a:gd name="adj1" fmla="val 50000"/>
                <a:gd name="adj2" fmla="val 6943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43600" y="2740320"/>
              <a:ext cx="1139760" cy="410400"/>
            </a:xfrm>
            <a:prstGeom prst="rightArrow">
              <a:avLst>
                <a:gd name="adj1" fmla="val 50000"/>
                <a:gd name="adj2" fmla="val 6943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07CA-17C3-4AAA-8224-7FF5B6C7D471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 rot="16200000">
            <a:off x="5638680" y="3809880"/>
            <a:ext cx="281952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U Modes of Operation- Mod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33200" y="933120"/>
            <a:ext cx="65455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 2: Only Plane 1 Output to Display Pan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648320" y="1768320"/>
            <a:ext cx="66996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" y="4343400"/>
            <a:ext cx="57150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48320" y="1768320"/>
            <a:ext cx="114300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" y="1752480"/>
            <a:ext cx="190512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/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PU or GP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7"/>
          <a:stretch/>
        </p:blipFill>
        <p:spPr>
          <a:xfrm>
            <a:off x="7302600" y="1676520"/>
            <a:ext cx="1841400" cy="17967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 rot="5400000">
            <a:off x="754560" y="3528000"/>
            <a:ext cx="1066680" cy="411480"/>
          </a:xfrm>
          <a:prstGeom prst="rightArrow">
            <a:avLst>
              <a:gd name="adj1" fmla="val 50000"/>
              <a:gd name="adj2" fmla="val 648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2338920" y="3527640"/>
            <a:ext cx="1066680" cy="411120"/>
          </a:xfrm>
          <a:prstGeom prst="rightArrow">
            <a:avLst>
              <a:gd name="adj1" fmla="val 50000"/>
              <a:gd name="adj2" fmla="val 648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00400" y="13716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743200" y="1447920"/>
            <a:ext cx="2209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/or graphic 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28600" y="3505320"/>
            <a:ext cx="838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943600" y="1828800"/>
            <a:ext cx="1371600" cy="411120"/>
          </a:xfrm>
          <a:prstGeom prst="rightArrow">
            <a:avLst>
              <a:gd name="adj1" fmla="val 50000"/>
              <a:gd name="adj2" fmla="val 8340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1828800"/>
            <a:ext cx="1371600" cy="411120"/>
          </a:xfrm>
          <a:prstGeom prst="rightArrow">
            <a:avLst>
              <a:gd name="adj1" fmla="val 50000"/>
              <a:gd name="adj2" fmla="val 834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29718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43600" y="2743200"/>
            <a:ext cx="685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43600" y="27432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943600" y="2666880"/>
            <a:ext cx="990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43600" y="2438280"/>
            <a:ext cx="1219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943600" y="243828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400800" y="2963520"/>
            <a:ext cx="1440" cy="16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629400" y="2734920"/>
            <a:ext cx="1440" cy="207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6934320" y="2658960"/>
            <a:ext cx="1440" cy="245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162920" y="2430360"/>
            <a:ext cx="1440" cy="291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943600" y="2438280"/>
            <a:ext cx="121932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943600" y="2743200"/>
            <a:ext cx="68580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rot="5400000">
            <a:off x="5493960" y="3657600"/>
            <a:ext cx="205740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095880" y="5334120"/>
            <a:ext cx="10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095880" y="5105520"/>
            <a:ext cx="838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095880" y="5105520"/>
            <a:ext cx="83844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16200000">
            <a:off x="5908680" y="5140080"/>
            <a:ext cx="228600" cy="158760"/>
          </a:xfrm>
          <a:prstGeom prst="flowChartExtra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95880" y="4572000"/>
            <a:ext cx="30492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16200000">
            <a:off x="5908680" y="4606560"/>
            <a:ext cx="228600" cy="158760"/>
          </a:xfrm>
          <a:prstGeom prst="flowChartExtra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400800" y="2963520"/>
            <a:ext cx="1440" cy="161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087600" y="5105520"/>
            <a:ext cx="8542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6087960" y="4800600"/>
            <a:ext cx="549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087600" y="4572000"/>
            <a:ext cx="3207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BE91-F78C-42D6-BE79-83DCFC56F103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 rot="16200000">
            <a:off x="5333760" y="3657240"/>
            <a:ext cx="266724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U Modes of Operation – Mod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64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 3: Output All Planes to Mem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648320" y="1768320"/>
            <a:ext cx="66996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28600" y="4343400"/>
            <a:ext cx="57150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648320" y="1768320"/>
            <a:ext cx="114300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28600" y="1752480"/>
            <a:ext cx="190512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/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PU or GP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7"/>
          <a:stretch/>
        </p:blipFill>
        <p:spPr>
          <a:xfrm>
            <a:off x="7302600" y="1676520"/>
            <a:ext cx="1841400" cy="179676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 rot="5400000">
            <a:off x="754560" y="3528000"/>
            <a:ext cx="1066680" cy="411480"/>
          </a:xfrm>
          <a:prstGeom prst="rightArrow">
            <a:avLst>
              <a:gd name="adj1" fmla="val 50000"/>
              <a:gd name="adj2" fmla="val 648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16200000">
            <a:off x="2338920" y="3527640"/>
            <a:ext cx="1066680" cy="411120"/>
          </a:xfrm>
          <a:prstGeom prst="rightArrow">
            <a:avLst>
              <a:gd name="adj1" fmla="val 50000"/>
              <a:gd name="adj2" fmla="val 648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00400" y="13716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743200" y="1447920"/>
            <a:ext cx="2209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/or graphic 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" y="3505320"/>
            <a:ext cx="838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943600" y="29718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943600" y="2743200"/>
            <a:ext cx="5335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3600" y="27432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943600" y="2666880"/>
            <a:ext cx="609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943600" y="2438280"/>
            <a:ext cx="838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43600" y="243828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6400800" y="2963520"/>
            <a:ext cx="1440" cy="16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477120" y="2734920"/>
            <a:ext cx="1440" cy="207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553080" y="2658960"/>
            <a:ext cx="1800" cy="245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781680" y="2430000"/>
            <a:ext cx="1800" cy="268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43600" y="2438280"/>
            <a:ext cx="83808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943600" y="2743200"/>
            <a:ext cx="53352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5400000">
            <a:off x="5341680" y="3657600"/>
            <a:ext cx="205740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095880" y="5105520"/>
            <a:ext cx="685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095880" y="4876920"/>
            <a:ext cx="5335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095880" y="4876920"/>
            <a:ext cx="68580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16200000">
            <a:off x="5908680" y="4911480"/>
            <a:ext cx="228600" cy="158760"/>
          </a:xfrm>
          <a:prstGeom prst="flowChartExtra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95880" y="4572000"/>
            <a:ext cx="15264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16200000">
            <a:off x="5908680" y="4606560"/>
            <a:ext cx="228600" cy="158760"/>
          </a:xfrm>
          <a:prstGeom prst="flowChartExtra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6248520" y="2963520"/>
            <a:ext cx="1440" cy="161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6087960" y="4876920"/>
            <a:ext cx="4730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6087600" y="4800600"/>
            <a:ext cx="397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087960" y="4572000"/>
            <a:ext cx="168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095880" y="5410080"/>
            <a:ext cx="1067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095880" y="5181480"/>
            <a:ext cx="5335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095880" y="5181480"/>
            <a:ext cx="106704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6200000">
            <a:off x="5908680" y="5216040"/>
            <a:ext cx="228600" cy="158760"/>
          </a:xfrm>
          <a:prstGeom prst="flowChartExtra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6087600" y="5181480"/>
            <a:ext cx="8542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6200000">
            <a:off x="5524560" y="3543120"/>
            <a:ext cx="304776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934320" y="2354040"/>
            <a:ext cx="1440" cy="283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943600" y="2362320"/>
            <a:ext cx="990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943600" y="2133720"/>
            <a:ext cx="838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943600" y="21337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943600" y="2133720"/>
            <a:ext cx="121932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7162920" y="2125440"/>
            <a:ext cx="1440" cy="329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5935320" y="2133720"/>
            <a:ext cx="1235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B2CA-FE96-496B-9CF2-290BE563309F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U Modes of Operation – Mode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64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 4: Output Colorb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648320" y="1768320"/>
            <a:ext cx="66996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4343400"/>
            <a:ext cx="57150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648320" y="1768320"/>
            <a:ext cx="114300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" y="1752480"/>
            <a:ext cx="190512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/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PU or GP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7"/>
          <a:stretch/>
        </p:blipFill>
        <p:spPr>
          <a:xfrm>
            <a:off x="7302600" y="1676520"/>
            <a:ext cx="1841400" cy="179676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 rot="5400000">
            <a:off x="754560" y="3528000"/>
            <a:ext cx="1066680" cy="411480"/>
          </a:xfrm>
          <a:prstGeom prst="rightArrow">
            <a:avLst>
              <a:gd name="adj1" fmla="val 50000"/>
              <a:gd name="adj2" fmla="val 648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16200000">
            <a:off x="2338920" y="3527640"/>
            <a:ext cx="1066680" cy="411120"/>
          </a:xfrm>
          <a:prstGeom prst="rightArrow">
            <a:avLst>
              <a:gd name="adj1" fmla="val 50000"/>
              <a:gd name="adj2" fmla="val 648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200400" y="13716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43200" y="1447920"/>
            <a:ext cx="2209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/or graphic 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8600" y="3505320"/>
            <a:ext cx="838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867280" y="2362320"/>
            <a:ext cx="5335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867280" y="2133720"/>
            <a:ext cx="5335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867280" y="2133720"/>
            <a:ext cx="53352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719760" y="1676520"/>
            <a:ext cx="287640" cy="1825200"/>
            <a:chOff x="6719760" y="1676520"/>
            <a:chExt cx="287640" cy="1825200"/>
          </a:xfrm>
        </p:grpSpPr>
        <p:sp>
          <p:nvSpPr>
            <p:cNvPr id="709" name=""/>
            <p:cNvSpPr/>
            <p:nvPr/>
          </p:nvSpPr>
          <p:spPr>
            <a:xfrm>
              <a:off x="6719760" y="1676520"/>
              <a:ext cx="28764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19760" y="1904760"/>
              <a:ext cx="287640" cy="228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19760" y="2133000"/>
              <a:ext cx="28764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19760" y="2361600"/>
              <a:ext cx="287640" cy="228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19760" y="2588400"/>
              <a:ext cx="28764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19760" y="2816640"/>
              <a:ext cx="287640" cy="22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19760" y="3045240"/>
              <a:ext cx="287640" cy="2282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19760" y="3273480"/>
              <a:ext cx="28764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7356600" y="1981080"/>
            <a:ext cx="3394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DB855-037B-446C-96DE-3F23A79D3678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U: Pixel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920" y="1066680"/>
            <a:ext cx="8305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ixel contains four elements: alpha, red (R), green (G) and blue 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124080" y="1905120"/>
            <a:ext cx="1676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00600" y="1905120"/>
            <a:ext cx="16765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477120" y="1905120"/>
            <a:ext cx="167616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447920" y="1905120"/>
            <a:ext cx="16761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447920" y="2666880"/>
            <a:ext cx="1676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124080" y="266688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00600" y="266688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477120" y="2666880"/>
            <a:ext cx="1676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828800" y="2743200"/>
            <a:ext cx="762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581280" y="2743200"/>
            <a:ext cx="762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257800" y="2743200"/>
            <a:ext cx="762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934320" y="2743200"/>
            <a:ext cx="761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28195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48120" y="28195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200400" y="28195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371600" y="3581280"/>
            <a:ext cx="68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438280" y="3581280"/>
            <a:ext cx="68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24080" y="3581280"/>
            <a:ext cx="68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724280" y="281952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76920" y="28195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114800" y="3581280"/>
            <a:ext cx="68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800600" y="3581280"/>
            <a:ext cx="68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400800" y="28195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553080" y="281952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791320" y="3581280"/>
            <a:ext cx="68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477120" y="3581280"/>
            <a:ext cx="68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8077320" y="281952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467480" y="3581280"/>
            <a:ext cx="68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688F-9F42-469D-97B4-C86B3CA34718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ur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32840" y="933120"/>
            <a:ext cx="855036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32 x 32 pixel hardware cursor is stored in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ursor is laid on top of all three pla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pixel in the cursor has the following 16-bit forma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1284120" y="2408400"/>
            <a:ext cx="5934240" cy="127944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3529080" y="4307040"/>
            <a:ext cx="1731960" cy="112068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ad1c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rot="18360000">
            <a:off x="4734000" y="4640040"/>
            <a:ext cx="114120" cy="145800"/>
          </a:xfrm>
          <a:prstGeom prst="upArrow">
            <a:avLst>
              <a:gd name="adj1" fmla="val 50000"/>
              <a:gd name="adj2" fmla="val 31940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4721400" y="4483080"/>
            <a:ext cx="82224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4711320" y="4237200"/>
            <a:ext cx="84132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839840" y="4237200"/>
            <a:ext cx="978120" cy="41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4869000" y="4473720"/>
            <a:ext cx="96048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553000" y="4238640"/>
            <a:ext cx="26676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rot="18360000">
            <a:off x="5582160" y="4254840"/>
            <a:ext cx="174600" cy="223920"/>
          </a:xfrm>
          <a:prstGeom prst="upArrow">
            <a:avLst>
              <a:gd name="adj1" fmla="val 50000"/>
              <a:gd name="adj2" fmla="val 32062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8576-7898-407F-8DFF-FC0A835FC417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Descrip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33200" y="933120"/>
            <a:ext cx="481968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rea descriptor defines the specific region on a plane that will be displayed on the LCD pa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1003320" y="2425680"/>
            <a:ext cx="3581280" cy="265752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5079960" y="1808280"/>
            <a:ext cx="3759120" cy="35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Descriptors Specif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map sourc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interest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map sourc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 f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f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ma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100F-08B4-4471-959E-B8C4019A41E4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Components used on MPC8610HPC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538440" y="1687680"/>
            <a:ext cx="1625760" cy="768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915160" y="1670040"/>
            <a:ext cx="1976400" cy="768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094440" y="3314880"/>
            <a:ext cx="1625400" cy="7682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544920" y="3330720"/>
            <a:ext cx="1625400" cy="7682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1887480" y="3736800"/>
            <a:ext cx="1643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368960" y="4108320"/>
            <a:ext cx="1440" cy="10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3084480" y="5148360"/>
            <a:ext cx="1292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290680" y="4819680"/>
            <a:ext cx="790560" cy="642960"/>
          </a:xfrm>
          <a:prstGeom prst="rect">
            <a:avLst/>
          </a:prstGeom>
          <a:solidFill>
            <a:srgbClr val="33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1910880" y="5137200"/>
            <a:ext cx="365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147400" y="4802040"/>
            <a:ext cx="1061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 Cond"/>
              </a:rPr>
              <a:t>D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 Cond"/>
              </a:rPr>
              <a:t>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647160" y="1781280"/>
            <a:ext cx="142740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Player, etc.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052520" y="3513240"/>
            <a:ext cx="573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447960" y="3490920"/>
            <a:ext cx="839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959080" y="1866960"/>
            <a:ext cx="1907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Frame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438280" y="2043000"/>
            <a:ext cx="10954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159520" y="2054160"/>
            <a:ext cx="7556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829560" y="2449440"/>
            <a:ext cx="1440" cy="84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5162040" y="3726000"/>
            <a:ext cx="930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18160" y="1246320"/>
            <a:ext cx="2697120" cy="3317760"/>
          </a:xfrm>
          <a:custGeom>
            <a:avLst/>
            <a:gdLst>
              <a:gd name="textAreaLeft" fmla="*/ 131400 w 2697120"/>
              <a:gd name="textAreaRight" fmla="*/ 2565720 w 2697120"/>
              <a:gd name="textAreaTop" fmla="*/ 131400 h 3317760"/>
              <a:gd name="textAreaBottom" fmla="*/ 3186360 h 3317760"/>
            </a:gdLst>
            <a:ahLst/>
            <a:rect l="textAreaLeft" t="textAreaTop" r="textAreaRight" b="textAreaBottom"/>
            <a:pathLst>
              <a:path w="21600" h="26570">
                <a:moveTo>
                  <a:pt x="3600" y="0"/>
                </a:moveTo>
                <a:arcTo wR="3600" hR="3600" stAng="16200000" swAng="-5400000"/>
                <a:lnTo>
                  <a:pt x="0" y="22970"/>
                </a:lnTo>
                <a:arcTo wR="3600" hR="3600" stAng="10800000" swAng="-5400000"/>
                <a:lnTo>
                  <a:pt x="18000" y="265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106760" y="1255680"/>
            <a:ext cx="103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Linux</a:t>
            </a:r>
            <a:r>
              <a:rPr b="1" lang="en-US" sz="1400" spc="-1" strike="noStrike" baseline="30000">
                <a:solidFill>
                  <a:srgbClr val="3399ff"/>
                </a:solidFill>
                <a:latin typeface="Arial"/>
              </a:rPr>
              <a:t>®</a:t>
            </a: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506520" y="2941560"/>
            <a:ext cx="1425600" cy="139068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433440" y="4437000"/>
            <a:ext cx="1425600" cy="139068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2292480" y="3416400"/>
            <a:ext cx="790560" cy="642960"/>
          </a:xfrm>
          <a:prstGeom prst="rect">
            <a:avLst/>
          </a:prstGeom>
          <a:solidFill>
            <a:srgbClr val="33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164680" y="3414600"/>
            <a:ext cx="1061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 Cond"/>
              </a:rPr>
              <a:t>LV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Demi Cond"/>
              </a:rPr>
              <a:t>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322000" y="4270320"/>
            <a:ext cx="676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1101600" y="1606680"/>
            <a:ext cx="1306800" cy="86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D697-A140-4289-9582-FD464930ACD9}" type="slidenum">
              <a:t>17</a:t>
            </a:fld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32840" y="933120"/>
            <a:ext cx="88837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-b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DVI en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initializes device and associates with the kernel frame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AOIs, clock rates, memory addresses, area descripto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dev/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5A77-89ED-4018-9D9B-CE6F3F86A952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ization and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32840" y="933120"/>
            <a:ext cx="88837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the framebuffer code in the Linu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DIU driver code in Linux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t 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 for the device 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cate memory corresponding to the resolution cho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xel format (size, positi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OI size and 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roma key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mma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sor bitmap address and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rizontal and vertical timing 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xel 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 D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 with Linux frame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resolution (and corresponding timing parameters) us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fbse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bset –a &lt;XRES&gt;x&lt;YRES&gt; -depth &lt;bits/pix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30168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ks up parameters from /etc/fb.m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tests using fbv and MP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applications to demonstrate AOIs and blending of pla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8357-2AA4-4846-82D7-4F0D6A34CB06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eo to the Power of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3200" y="933120"/>
            <a:ext cx="87645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Planes of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plane: PowerPoint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plane: 2 AOI (Areas of Interest) decoding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plane: 2 more AOI with 2 more vid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of 5 AOI, all operating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unning under Linu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layer for video decode (utilizing AltiVec™ technolog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Linux Framebuffer per A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U hardware accel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-pixel alpha blending handled by DIU (hardwar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I Framebuffers have no concept of physical screen location or bl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ABDF-536C-43C6-B1CF-120FE5F39CA0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ization and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1104840" y="1793880"/>
            <a:ext cx="6932520" cy="327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FEC4-7522-44D5-B19C-28E4F8EFA744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ization and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2589120" y="1239840"/>
            <a:ext cx="3936960" cy="3378240"/>
          </a:xfrm>
          <a:prstGeom prst="rect">
            <a:avLst/>
          </a:prstGeom>
          <a:ln w="0">
            <a:noFill/>
          </a:ln>
        </p:spPr>
      </p:pic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32840" y="5217840"/>
            <a:ext cx="88837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ctivity in multiple planes, create a minimum of 3 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0680">
              <a:lnSpc>
                <a:spcPct val="75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re, chain the 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674D-B146-4726-8006-814B4CA0C73A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ization and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941400" y="1069920"/>
            <a:ext cx="7180200" cy="151596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2"/>
          <a:stretch/>
        </p:blipFill>
        <p:spPr>
          <a:xfrm>
            <a:off x="1057320" y="3092400"/>
            <a:ext cx="7014960" cy="153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38EB-9C91-46CB-98EB-30C71957DD81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ization and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50480" y="3498480"/>
            <a:ext cx="8883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s 2 AOIs per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068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zero value for Next AD only for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2 A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1003320" y="1473120"/>
            <a:ext cx="7015320" cy="14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B9BA-8310-4C38-865F-22863562D503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 Interface Unit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159160" y="933480"/>
            <a:ext cx="3857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llel TTL display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/Green/Blue (RGB) and 256-level grayscale input pixel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6344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 bits/pixel (bp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ble bit order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6344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8 bits per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cur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6344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x 32 pixels, 16 bits/pix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75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 to 256 levels α-ble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ma keying selectable by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programmable Gamma adjustments for each color 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 write-back mode to store intermediate results, virtually extending the number of graphics p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operating m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506520" y="1438200"/>
          <a:ext cx="4294080" cy="29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1438200"/>
                    <a:ext cx="429408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F6A8-2311-40B8-8766-343CF0F47735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28600" y="9126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ti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828440" y="2742840"/>
            <a:ext cx="53881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 on MPC8610HPC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74C-1969-408B-8822-F4CFDF92B123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2840" y="37440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32840" y="933120"/>
            <a:ext cx="88837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rkSun@Freesca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61BA-529A-4B85-820C-0EADB6F7EEFD}" type="slidenum">
              <a:t>27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C8610 Integrated Host 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57320" y="990720"/>
            <a:ext cx="5179320" cy="3450600"/>
            <a:chOff x="157320" y="990720"/>
            <a:chExt cx="5179320" cy="3450600"/>
          </a:xfrm>
        </p:grpSpPr>
        <p:sp>
          <p:nvSpPr>
            <p:cNvPr id="415" name=""/>
            <p:cNvSpPr/>
            <p:nvPr/>
          </p:nvSpPr>
          <p:spPr>
            <a:xfrm>
              <a:off x="1160280" y="1015560"/>
              <a:ext cx="1080" cy="2267280"/>
            </a:xfrm>
            <a:prstGeom prst="line">
              <a:avLst/>
            </a:prstGeom>
            <a:ln w="1778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11760" y="999720"/>
              <a:ext cx="1080" cy="2267280"/>
            </a:xfrm>
            <a:prstGeom prst="line">
              <a:avLst/>
            </a:prstGeom>
            <a:ln w="1778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88640" y="3189600"/>
              <a:ext cx="2899440" cy="1080"/>
            </a:xfrm>
            <a:prstGeom prst="line">
              <a:avLst/>
            </a:prstGeom>
            <a:ln w="1778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61520" y="2540520"/>
              <a:ext cx="2330640" cy="2966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40800" y="2521440"/>
              <a:ext cx="2157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PX Coherency Modu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45160" y="3054960"/>
              <a:ext cx="8179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PX B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22800" y="990720"/>
              <a:ext cx="1102680" cy="65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DR/DDR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03720" y="1677600"/>
              <a:ext cx="1121760" cy="509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hance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cal B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13440" y="2221920"/>
              <a:ext cx="1123200" cy="1137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x DU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x I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2 x GP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r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 Interru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91520" y="3887640"/>
              <a:ext cx="563040" cy="547200"/>
            </a:xfrm>
            <a:prstGeom prst="rect">
              <a:avLst/>
            </a:prstGeom>
            <a:solidFill>
              <a:srgbClr val="d0a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 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10680" y="3887640"/>
              <a:ext cx="782280" cy="547200"/>
            </a:xfrm>
            <a:prstGeom prst="rect">
              <a:avLst/>
            </a:prstGeom>
            <a:solidFill>
              <a:srgbClr val="d0a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8 PC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press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10680" y="3594240"/>
              <a:ext cx="1355040" cy="321840"/>
            </a:xfrm>
            <a:prstGeom prst="rect">
              <a:avLst/>
            </a:prstGeom>
            <a:solidFill>
              <a:srgbClr val="d0a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-chip Swit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361520" y="3594240"/>
              <a:ext cx="685440" cy="840600"/>
            </a:xfrm>
            <a:prstGeom prst="rect">
              <a:avLst/>
            </a:prstGeom>
            <a:solidFill>
              <a:srgbClr val="d0a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x SS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/AC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7320" y="1034640"/>
              <a:ext cx="734400" cy="5472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C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91720" y="1321920"/>
              <a:ext cx="196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03920" y="1226880"/>
              <a:ext cx="196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94200" y="1863000"/>
              <a:ext cx="196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94200" y="2757960"/>
              <a:ext cx="196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74000" y="2826360"/>
              <a:ext cx="1080" cy="31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69320" y="3283200"/>
              <a:ext cx="1080" cy="31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29600" y="3283200"/>
              <a:ext cx="1080" cy="31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08560" y="3877920"/>
              <a:ext cx="744120" cy="556920"/>
            </a:xfrm>
            <a:prstGeom prst="rect">
              <a:avLst/>
            </a:prstGeom>
            <a:solidFill>
              <a:srgbClr val="d0a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4 PC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press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54440" y="3887640"/>
              <a:ext cx="563040" cy="547200"/>
            </a:xfrm>
            <a:prstGeom prst="rect">
              <a:avLst/>
            </a:prstGeom>
            <a:solidFill>
              <a:srgbClr val="d0a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 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53040" y="3877920"/>
              <a:ext cx="401400" cy="556920"/>
            </a:xfrm>
            <a:prstGeom prst="rect">
              <a:avLst/>
            </a:prstGeom>
            <a:solidFill>
              <a:srgbClr val="d0a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17920" y="3595680"/>
              <a:ext cx="1699560" cy="303120"/>
            </a:xfrm>
            <a:prstGeom prst="rect">
              <a:avLst/>
            </a:prstGeom>
            <a:solidFill>
              <a:srgbClr val="d0a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-chip Swit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72080" y="3273480"/>
              <a:ext cx="108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723320" y="1042560"/>
              <a:ext cx="1691280" cy="1195920"/>
              <a:chOff x="1723320" y="1042560"/>
              <a:chExt cx="1691280" cy="1195920"/>
            </a:xfrm>
          </p:grpSpPr>
          <p:sp>
            <p:nvSpPr>
              <p:cNvPr id="442" name=""/>
              <p:cNvSpPr/>
              <p:nvPr/>
            </p:nvSpPr>
            <p:spPr>
              <a:xfrm>
                <a:off x="1723320" y="1965960"/>
                <a:ext cx="805320" cy="27252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2 KB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-Cach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723320" y="1474920"/>
                <a:ext cx="1690200" cy="43704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e600 Co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723320" y="1042560"/>
                <a:ext cx="1690200" cy="38160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56 KB L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609280" y="1965960"/>
                <a:ext cx="805320" cy="27252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2 KB    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D-Cach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2574000" y="2242440"/>
              <a:ext cx="108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6600" y="3584880"/>
              <a:ext cx="610920" cy="849960"/>
            </a:xfrm>
            <a:prstGeom prst="rect">
              <a:avLst/>
            </a:prstGeom>
            <a:solidFill>
              <a:srgbClr val="d0a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x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R/S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r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79000" y="3289320"/>
              <a:ext cx="144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17160" y="3944880"/>
              <a:ext cx="1337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25840" y="3952800"/>
              <a:ext cx="1656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94400" y="3943080"/>
              <a:ext cx="1440" cy="48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713120" y="3960720"/>
              <a:ext cx="1080" cy="48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76800" y="3958920"/>
              <a:ext cx="1440" cy="48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76360" y="4613400"/>
            <a:ext cx="4805280" cy="151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rget Applica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otic vision and navi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rospace/defense display, control and image proces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osks with image proces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-function printers and scan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-board compu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80200" y="879480"/>
            <a:ext cx="3763800" cy="487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600 Power Architecture™ CP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67 MHz – 1.33 GHz e600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6 KB on-chip backside L2 Cache with E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tiVec® vector processor for image proces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uble precision FPU, 4 x integer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terfaces and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R/DDR2 controller, 64/32-bit, 333-533 MHz (E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CD controller, 24 bit/pixel, 60 Hz refre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181080">
              <a:lnSpc>
                <a:spcPct val="93000"/>
              </a:lnSpc>
              <a:spcBef>
                <a:spcPts val="26"/>
              </a:spcBef>
              <a:spcAft>
                <a:spcPts val="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p to SXGA (1280 x 1024) resolu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181080">
              <a:lnSpc>
                <a:spcPct val="93000"/>
              </a:lnSpc>
              <a:spcBef>
                <a:spcPts val="26"/>
              </a:spcBef>
              <a:spcAft>
                <a:spcPts val="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lanes (XGA) + 1 cursor pl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-I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/AC97 audio 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-PCI-Express® (x1/x2/x4/x8; x1/x2/x4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CI 2.2, 32-bit, 33/66 M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hanced local bus, 32-bit, to 133 MHz (ROM, NAND, NOR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-I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, 2-DUART, 4 channels each, 115 kb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- Fast/Serial IrDA channels, 4 Mb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-DMA, 4 channels e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ial peripheral interface (SPI), 4 to 16/32-bit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-GPIO, 16 dedicated, 16 multiplex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chine check external interru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tchdog and 2-global ti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ower, Package, Technology, 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 W max at 1066 MHz, Tj=105C, 0.95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.5 W max at 667 MHz, Tj=105C, 0.95V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83 FC-PBGA, 90 nm SOI, RoHS compl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 1.0 Samples 4Q-07, Production 1H-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3000"/>
              </a:lnSpc>
              <a:spcBef>
                <a:spcPts val="37"/>
              </a:spcBef>
              <a:spcAft>
                <a:spcPts val="37"/>
              </a:spcAft>
              <a:buClr>
                <a:srgbClr val="00608b"/>
              </a:buClr>
              <a:buFont typeface="Wingdings" charset="2"/>
              <a:buChar char=""/>
              <a:tabLst>
                <a:tab algn="l" pos="16668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known Export Restrictions for MPC8610, evaluation board or Linux® B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943280" y="5511960"/>
            <a:ext cx="34797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reescale.com/image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8D29-1B30-46E7-AF9F-D89628ACCED7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EVALHPCD-8610E Evaluation Platfor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pping Now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46240" y="1162080"/>
            <a:ext cx="349740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n the bo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C8610 development board board in chas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loaded latest Linux B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4480" indent="-11124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U at 1066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4480" indent="-11124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at 533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5000"/>
              </a:lnSpc>
              <a:spcBef>
                <a:spcPts val="62"/>
              </a:spcBef>
              <a:spcAft>
                <a:spcPts val="62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-conductor power 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-9 RS-232 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B T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4480" indent="-11124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WH-UTP-PPCC-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5000"/>
              </a:lnSpc>
              <a:spcBef>
                <a:spcPts val="62"/>
              </a:spcBef>
              <a:spcAft>
                <a:spcPts val="62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 with Hardware Design Workbook (131 pag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5000"/>
              </a:lnSpc>
              <a:spcBef>
                <a:spcPts val="62"/>
              </a:spcBef>
              <a:spcAft>
                <a:spcPts val="62"/>
              </a:spcAft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ing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5520" y="4502160"/>
            <a:ext cx="5521320" cy="13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►"/>
              <a:tabLst>
                <a:tab algn="l" pos="173160"/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 the web: freescale.com/imageproces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►"/>
              <a:tabLst>
                <a:tab algn="l" pos="173160"/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►"/>
              <a:tabLst>
                <a:tab algn="l" pos="173160"/>
                <a:tab algn="l" pos="630360"/>
                <a:tab algn="l" pos="1087560"/>
                <a:tab algn="l" pos="1544760"/>
                <a:tab algn="l" pos="2001960"/>
                <a:tab algn="l" pos="2459160"/>
                <a:tab algn="l" pos="2916360"/>
                <a:tab algn="l" pos="3373560"/>
                <a:tab algn="l" pos="3830760"/>
                <a:tab algn="l" pos="4287960"/>
                <a:tab algn="l" pos="4745160"/>
                <a:tab algn="l" pos="5202360"/>
                <a:tab algn="l" pos="5659560"/>
                <a:tab algn="l" pos="6116760"/>
                <a:tab algn="l" pos="6573960"/>
                <a:tab algn="l" pos="7031160"/>
                <a:tab algn="l" pos="7488360"/>
                <a:tab algn="l" pos="7945560"/>
                <a:tab algn="l" pos="8402760"/>
                <a:tab algn="l" pos="8859960"/>
                <a:tab algn="l" pos="93171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SPs downloadable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0" y="1139760"/>
            <a:ext cx="5545080" cy="32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2918-2896-4A56-8E52-03B0DA8351BA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C8610 Key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840" y="933120"/>
            <a:ext cx="43657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600 Power Architecture™ core with AltiVec™ Vector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/3D Graphics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iVec™ Vector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with external Graphics Processing Units  (GPU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s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Interface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 Inputs/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ronous Serial Interface (SSI) for I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/AC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EM/DMEM, L2 Cache, DDR1/DDR2, NAND, NOR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A Controll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50840" y="933120"/>
            <a:ext cx="43657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I and PCI Express®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Local Bus 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/Serial Infrared Interfaces (FIRI/SIRI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ial Peripheral Interface (SPI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Purpose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s and 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ble Interrupt Controller (P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Timer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23920">
              <a:lnSpc>
                <a:spcPct val="75000"/>
              </a:lnSpc>
              <a:spcBef>
                <a:spcPts val="51"/>
              </a:spcBef>
              <a:spcAft>
                <a:spcPts val="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chdog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181F-F305-4C5B-AC93-304589413997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0440" y="4629240"/>
            <a:ext cx="63532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p>
            <a:pPr indent="0">
              <a:lnSpc>
                <a:spcPct val="79000"/>
              </a:lnSpc>
              <a:spcBef>
                <a:spcPts val="83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PC8610 Display Interface Unit (DIU)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90440" y="5187960"/>
            <a:ext cx="63532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91440" anchor="t">
            <a:noAutofit/>
          </a:bodyPr>
          <a:p>
            <a:pPr indent="0">
              <a:lnSpc>
                <a:spcPct val="93000"/>
              </a:lnSpc>
              <a:spcAft>
                <a:spcPts val="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CD Controll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Graphics Lay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289320" y="2665440"/>
            <a:ext cx="2568600" cy="15368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289320" y="2657520"/>
            <a:ext cx="2568600" cy="15364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297240" y="2668680"/>
            <a:ext cx="2568600" cy="15364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1143000" y="1828800"/>
            <a:ext cx="4800600" cy="3429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989680" y="4800600"/>
            <a:ext cx="639720" cy="639720"/>
          </a:xfrm>
          <a:custGeom>
            <a:avLst/>
            <a:gdLst/>
            <a:ahLst/>
            <a:rect l="l" t="t" r="r" b="b"/>
            <a:pathLst>
              <a:path w="1778" h="1778">
                <a:moveTo>
                  <a:pt x="0" y="0"/>
                </a:moveTo>
                <a:lnTo>
                  <a:pt x="1777" y="1777"/>
                </a:lnTo>
              </a:path>
            </a:pathLst>
          </a:custGeom>
          <a:noFill/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942160" y="2971800"/>
            <a:ext cx="917280" cy="1440"/>
          </a:xfrm>
          <a:custGeom>
            <a:avLst/>
            <a:gdLst/>
            <a:ahLst/>
            <a:rect l="l" t="t" r="r" b="b"/>
            <a:pathLst>
              <a:path w="2549" h="5">
                <a:moveTo>
                  <a:pt x="2548" y="0"/>
                </a:moveTo>
                <a:lnTo>
                  <a:pt x="0" y="4"/>
                </a:lnTo>
              </a:path>
            </a:pathLst>
          </a:custGeom>
          <a:noFill/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989680" y="1143000"/>
            <a:ext cx="641160" cy="638280"/>
          </a:xfrm>
          <a:custGeom>
            <a:avLst/>
            <a:gdLst/>
            <a:ahLst/>
            <a:rect l="l" t="t" r="r" b="b"/>
            <a:pathLst>
              <a:path w="1782" h="1774">
                <a:moveTo>
                  <a:pt x="1781" y="0"/>
                </a:moveTo>
                <a:lnTo>
                  <a:pt x="0" y="1773"/>
                </a:lnTo>
              </a:path>
            </a:pathLst>
          </a:custGeom>
          <a:noFill/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5CD6-2FB7-4EE1-BF59-242C8F0C32F2}" type="slidenum">
              <a:t>7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1 E">
                                      <p:cBhvr>
                                        <p:cTn id="8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1 E">
                                      <p:cBhvr>
                                        <p:cTn id="10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5956200" y="701640"/>
            <a:ext cx="2997360" cy="5121360"/>
          </a:xfrm>
          <a:prstGeom prst="rect">
            <a:avLst/>
          </a:prstGeom>
          <a:solidFill>
            <a:srgbClr val="c3cc51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s Sub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6116760" y="4268880"/>
            <a:ext cx="2568600" cy="15364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6116760" y="2657520"/>
            <a:ext cx="2568600" cy="15364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6116760" y="1046160"/>
            <a:ext cx="2568600" cy="15368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154080" y="1374840"/>
            <a:ext cx="2568600" cy="15364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5413320" y="3713040"/>
            <a:ext cx="563760" cy="64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60960" y="676440"/>
            <a:ext cx="1689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R2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32240" y="965160"/>
            <a:ext cx="1447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D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73000" y="3538440"/>
            <a:ext cx="493920" cy="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52280" y="3365640"/>
            <a:ext cx="5283360" cy="2438280"/>
          </a:xfrm>
          <a:prstGeom prst="rect">
            <a:avLst/>
          </a:prstGeom>
          <a:solidFill>
            <a:srgbClr val="dad1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254240" y="3478320"/>
            <a:ext cx="1440" cy="2270160"/>
          </a:xfrm>
          <a:prstGeom prst="line">
            <a:avLst/>
          </a:prstGeom>
          <a:ln w="1778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008600" y="3462480"/>
            <a:ext cx="1440" cy="2270160"/>
          </a:xfrm>
          <a:prstGeom prst="line">
            <a:avLst/>
          </a:prstGeom>
          <a:ln w="1778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82600" y="5654520"/>
            <a:ext cx="2901960" cy="1800"/>
          </a:xfrm>
          <a:prstGeom prst="line">
            <a:avLst/>
          </a:prstGeom>
          <a:ln w="1778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55840" y="5003640"/>
            <a:ext cx="2332080" cy="2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636560" y="4984920"/>
            <a:ext cx="2159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X Coherency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141640" y="5519880"/>
            <a:ext cx="817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X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319640" y="3452760"/>
            <a:ext cx="1103400" cy="652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R/DDR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920" y="3497400"/>
            <a:ext cx="734760" cy="547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C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85680" y="3784680"/>
            <a:ext cx="196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00400" y="3689280"/>
            <a:ext cx="1969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68680" y="5291280"/>
            <a:ext cx="1440" cy="31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819440" y="3505320"/>
            <a:ext cx="1690560" cy="1196640"/>
            <a:chOff x="1819440" y="3505320"/>
            <a:chExt cx="1690560" cy="1196640"/>
          </a:xfrm>
        </p:grpSpPr>
        <p:sp>
          <p:nvSpPr>
            <p:cNvPr id="497" name=""/>
            <p:cNvSpPr/>
            <p:nvPr/>
          </p:nvSpPr>
          <p:spPr>
            <a:xfrm>
              <a:off x="1819440" y="4429440"/>
              <a:ext cx="805680" cy="2725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2 KB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-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19440" y="3939480"/>
              <a:ext cx="1690560" cy="4359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600 C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19440" y="3505320"/>
              <a:ext cx="1690560" cy="3801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56 KB L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03960" y="4429440"/>
              <a:ext cx="805680" cy="2725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2 KB  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Cac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668680" y="4707000"/>
            <a:ext cx="1440" cy="312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603000" y="2879280"/>
            <a:ext cx="28440" cy="600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5C33D-B3A0-45FE-ABE4-851C36E623DF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2840" y="285480"/>
            <a:ext cx="88822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U Modes of Operation- Mode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32840" y="933120"/>
            <a:ext cx="43642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3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SzPct val="80000"/>
              <a:buFont typeface="Arial"/>
              <a:buChar char="►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 0: No Outpu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1768320"/>
            <a:ext cx="66996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4343400"/>
            <a:ext cx="57150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648320" y="1768320"/>
            <a:ext cx="114300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38480" y="182880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124080" y="2225520"/>
            <a:ext cx="1433520" cy="411480"/>
          </a:xfrm>
          <a:prstGeom prst="rightArrow">
            <a:avLst>
              <a:gd name="adj1" fmla="val 50000"/>
              <a:gd name="adj2" fmla="val 8709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606760"/>
            <a:ext cx="1433520" cy="411120"/>
          </a:xfrm>
          <a:prstGeom prst="rightArrow">
            <a:avLst>
              <a:gd name="adj1" fmla="val 50000"/>
              <a:gd name="adj2" fmla="val 871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006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1768320"/>
            <a:ext cx="609840" cy="457200"/>
          </a:xfrm>
          <a:prstGeom prst="parallelogram">
            <a:avLst>
              <a:gd name="adj" fmla="val 33346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14600" y="214956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90920" y="2530440"/>
            <a:ext cx="609480" cy="457200"/>
          </a:xfrm>
          <a:prstGeom prst="parallelogram">
            <a:avLst>
              <a:gd name="adj" fmla="val 3332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324480" y="1828800"/>
            <a:ext cx="99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361200" y="2286000"/>
            <a:ext cx="533160" cy="5335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" y="1752480"/>
            <a:ext cx="1905120" cy="1371600"/>
          </a:xfrm>
          <a:prstGeom prst="rect">
            <a:avLst/>
          </a:prstGeom>
          <a:solidFill>
            <a:srgbClr val="73b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/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PU or GPU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7"/>
          <a:stretch/>
        </p:blipFill>
        <p:spPr>
          <a:xfrm>
            <a:off x="7302600" y="1676520"/>
            <a:ext cx="1841400" cy="179676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 rot="5400000">
            <a:off x="754560" y="3528000"/>
            <a:ext cx="1066680" cy="411480"/>
          </a:xfrm>
          <a:prstGeom prst="rightArrow">
            <a:avLst>
              <a:gd name="adj1" fmla="val 50000"/>
              <a:gd name="adj2" fmla="val 648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6200000">
            <a:off x="2338920" y="3527640"/>
            <a:ext cx="1066680" cy="411120"/>
          </a:xfrm>
          <a:prstGeom prst="rightArrow">
            <a:avLst>
              <a:gd name="adj1" fmla="val 50000"/>
              <a:gd name="adj2" fmla="val 648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13716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743200" y="1447920"/>
            <a:ext cx="2209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/or graphic 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28600" y="3505320"/>
            <a:ext cx="838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997960" y="1763640"/>
            <a:ext cx="1221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9828-7231-4FAF-A8B8-4BD3BD903184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Lanning</cp:lastModifiedBy>
  <dcterms:modified xsi:type="dcterms:W3CDTF">2008-05-01T20:54:39Z</dcterms:modified>
  <cp:revision>1</cp:revision>
  <dc:subject/>
  <dc:title>Adding Framebuffer Support to Freescale SoCs</dc:title>
</cp:coreProperties>
</file>